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456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38880"/>
            <a:ext cx="876456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4760" y="196380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8280" y="196380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3888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4760" y="453888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8280" y="453888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38880"/>
            <a:ext cx="876456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...plkotačky a poudačky </a:t>
            </a:r>
            <a:r>
              <a:rPr b="1" i="1" lang="en-GB" sz="4000" spc="-1" strike="noStrike">
                <a:solidFill>
                  <a:srgbClr val="ff9966"/>
                </a:solidFill>
                <a:latin typeface="Wingdings"/>
                <a:ea typeface="Wingdings"/>
              </a:rPr>
              <a:t>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 algn="ctr">
              <a:lnSpc>
                <a:spcPct val="93000"/>
              </a:lnSpc>
              <a:buNone/>
              <a:tabLst>
                <a:tab algn="l" pos="0"/>
                <a:tab algn="l" pos="21276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HORÁC pro GAC únor 2011 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laková níže – vzestupné pohyby vzduchu vedou k ochlazování vzduchu a pokud vzduch stoupá dostateně vysoko vedou ke kondenzaci vodní páry – ke vzniku oblačnosti a srážek. Pokud je vrstva vzduchu dostatečně vertikálně mohutná vznik výrazné vrstevnaté oblačnosti, přeháněk a bouřek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840" y="1900080"/>
            <a:ext cx="915660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7640" y="1884240"/>
            <a:ext cx="181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4776840"/>
            <a:ext cx="8755200" cy="2151000"/>
          </a:xfrm>
          <a:solidFill>
            <a:srgbClr val="ef9100"/>
          </a:solidFill>
          <a:ln w="12600">
            <a:solidFill>
              <a:srgbClr val="081d58"/>
            </a:solidFill>
            <a:round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30400" y="5305320"/>
            <a:ext cx="1316160" cy="644760"/>
          </a:xfrm>
          <a:custGeom>
            <a:avLst/>
            <a:gdLst>
              <a:gd name="textAreaLeft" fmla="*/ 658080 w 1316160"/>
              <a:gd name="textAreaRight" fmla="*/ 1316160 w 1316160"/>
              <a:gd name="textAreaTop" fmla="*/ 322200 h 644760"/>
              <a:gd name="textAreaBottom" fmla="*/ 644760 h 6447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5560">
            <a:solidFill>
              <a:srgbClr val="cf0e30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515440" y="2651040"/>
            <a:ext cx="728640" cy="812880"/>
          </a:xfrm>
          <a:prstGeom prst="ellipse">
            <a:avLst/>
          </a:prstGeom>
          <a:solidFill>
            <a:srgbClr val="fafd00"/>
          </a:solidFill>
          <a:ln w="25560">
            <a:solidFill>
              <a:srgbClr val="fafd00"/>
            </a:solidFill>
            <a:miter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49440" y="5557680"/>
            <a:ext cx="1316160" cy="644760"/>
          </a:xfrm>
          <a:custGeom>
            <a:avLst/>
            <a:gdLst>
              <a:gd name="textAreaLeft" fmla="*/ 658080 w 1316160"/>
              <a:gd name="textAreaRight" fmla="*/ 1316160 w 1316160"/>
              <a:gd name="textAreaTop" fmla="*/ 322200 h 644760"/>
              <a:gd name="textAreaBottom" fmla="*/ 644760 h 6447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5560">
            <a:solidFill>
              <a:srgbClr val="cf0e30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36960" y="5641920"/>
            <a:ext cx="1315800" cy="644760"/>
          </a:xfrm>
          <a:custGeom>
            <a:avLst/>
            <a:gdLst>
              <a:gd name="textAreaLeft" fmla="*/ 657720 w 1315800"/>
              <a:gd name="textAreaRight" fmla="*/ 1315800 w 1315800"/>
              <a:gd name="textAreaTop" fmla="*/ 322200 h 644760"/>
              <a:gd name="textAreaBottom" fmla="*/ 644760 h 6447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5560">
            <a:solidFill>
              <a:srgbClr val="cf0e30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71960" y="5221440"/>
            <a:ext cx="1316160" cy="644400"/>
          </a:xfrm>
          <a:custGeom>
            <a:avLst/>
            <a:gdLst>
              <a:gd name="textAreaLeft" fmla="*/ 0 w 1316160"/>
              <a:gd name="textAreaRight" fmla="*/ 658080 w 1316160"/>
              <a:gd name="textAreaTop" fmla="*/ 322200 h 644400"/>
              <a:gd name="textAreaBottom" fmla="*/ 644400 h 6444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5560">
            <a:solidFill>
              <a:srgbClr val="cf0e30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71960" y="5641920"/>
            <a:ext cx="1316160" cy="644760"/>
          </a:xfrm>
          <a:custGeom>
            <a:avLst/>
            <a:gdLst>
              <a:gd name="textAreaLeft" fmla="*/ 0 w 1316160"/>
              <a:gd name="textAreaRight" fmla="*/ 658080 w 1316160"/>
              <a:gd name="textAreaTop" fmla="*/ 322200 h 644760"/>
              <a:gd name="textAreaBottom" fmla="*/ 644760 h 644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5560">
            <a:solidFill>
              <a:srgbClr val="cf0e30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71960" y="4970520"/>
            <a:ext cx="1316160" cy="476280"/>
          </a:xfrm>
          <a:custGeom>
            <a:avLst/>
            <a:gdLst>
              <a:gd name="textAreaLeft" fmla="*/ 0 w 1316160"/>
              <a:gd name="textAreaRight" fmla="*/ 658080 w 1316160"/>
              <a:gd name="textAreaTop" fmla="*/ 237960 h 476280"/>
              <a:gd name="textAreaBottom" fmla="*/ 476280 h 4762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25560">
            <a:solidFill>
              <a:srgbClr val="cf0e30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6920" y="6122880"/>
            <a:ext cx="11689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íž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30480" y="2862360"/>
            <a:ext cx="827280" cy="2674800"/>
          </a:xfrm>
          <a:custGeom>
            <a:avLst/>
            <a:gdLst>
              <a:gd name="textAreaLeft" fmla="*/ 413640 w 827280"/>
              <a:gd name="textAreaRight" fmla="*/ 827280 w 827280"/>
              <a:gd name="textAreaTop" fmla="*/ 1337400 h 2674800"/>
              <a:gd name="textAreaBottom" fmla="*/ 2674800 h 267480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f76681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67080" y="3198960"/>
            <a:ext cx="826920" cy="2674800"/>
          </a:xfrm>
          <a:custGeom>
            <a:avLst/>
            <a:gdLst>
              <a:gd name="textAreaLeft" fmla="*/ 413280 w 826920"/>
              <a:gd name="textAreaRight" fmla="*/ 826920 w 826920"/>
              <a:gd name="textAreaTop" fmla="*/ 1337400 h 2674800"/>
              <a:gd name="textAreaBottom" fmla="*/ 2674800 h 267480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f76681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6040" y="3282840"/>
            <a:ext cx="825480" cy="2675160"/>
          </a:xfrm>
          <a:custGeom>
            <a:avLst/>
            <a:gdLst>
              <a:gd name="textAreaLeft" fmla="*/ 412560 w 825480"/>
              <a:gd name="textAreaRight" fmla="*/ 825480 w 825480"/>
              <a:gd name="textAreaTop" fmla="*/ 1337400 h 2675160"/>
              <a:gd name="textAreaBottom" fmla="*/ 2675160 h 26751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f76681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59320" y="3282840"/>
            <a:ext cx="826920" cy="2675160"/>
          </a:xfrm>
          <a:custGeom>
            <a:avLst/>
            <a:gdLst>
              <a:gd name="textAreaLeft" fmla="*/ 0 w 826920"/>
              <a:gd name="textAreaRight" fmla="*/ 413280 w 826920"/>
              <a:gd name="textAreaTop" fmla="*/ 1337400 h 2675160"/>
              <a:gd name="textAreaBottom" fmla="*/ 2675160 h 26751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12600">
            <a:solidFill>
              <a:srgbClr val="f76681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45000" y="2862360"/>
            <a:ext cx="827280" cy="2674800"/>
          </a:xfrm>
          <a:custGeom>
            <a:avLst/>
            <a:gdLst>
              <a:gd name="textAreaLeft" fmla="*/ 0 w 827280"/>
              <a:gd name="textAreaRight" fmla="*/ 413640 w 827280"/>
              <a:gd name="textAreaTop" fmla="*/ 1337400 h 2674800"/>
              <a:gd name="textAreaBottom" fmla="*/ 2674800 h 26748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12600">
            <a:solidFill>
              <a:srgbClr val="f76681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29240" y="2525760"/>
            <a:ext cx="825480" cy="2674800"/>
          </a:xfrm>
          <a:custGeom>
            <a:avLst/>
            <a:gdLst>
              <a:gd name="textAreaLeft" fmla="*/ 0 w 825480"/>
              <a:gd name="textAreaRight" fmla="*/ 412560 w 825480"/>
              <a:gd name="textAreaTop" fmla="*/ 1337400 h 2674800"/>
              <a:gd name="textAreaBottom" fmla="*/ 2674800 h 26748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12600">
            <a:solidFill>
              <a:srgbClr val="f76681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63800" y="2948040"/>
            <a:ext cx="993960" cy="2506680"/>
          </a:xfrm>
          <a:custGeom>
            <a:avLst/>
            <a:gdLst>
              <a:gd name="textAreaLeft" fmla="*/ 496800 w 993960"/>
              <a:gd name="textAreaRight" fmla="*/ 993960 w 993960"/>
              <a:gd name="textAreaTop" fmla="*/ 0 h 2506680"/>
              <a:gd name="textAreaBottom" fmla="*/ 1253160 h 25066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dc0e5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98960" y="3200400"/>
            <a:ext cx="995040" cy="2506680"/>
          </a:xfrm>
          <a:custGeom>
            <a:avLst/>
            <a:gdLst>
              <a:gd name="textAreaLeft" fmla="*/ 497520 w 995040"/>
              <a:gd name="textAreaRight" fmla="*/ 995040 w 995040"/>
              <a:gd name="textAreaTop" fmla="*/ 0 h 2506680"/>
              <a:gd name="textAreaBottom" fmla="*/ 1253160 h 25066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dc0e5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49600" y="2897280"/>
            <a:ext cx="993960" cy="2506680"/>
          </a:xfrm>
          <a:custGeom>
            <a:avLst/>
            <a:gdLst>
              <a:gd name="textAreaLeft" fmla="*/ 0 w 993960"/>
              <a:gd name="textAreaRight" fmla="*/ 496800 w 993960"/>
              <a:gd name="textAreaTop" fmla="*/ 0 h 2506680"/>
              <a:gd name="textAreaBottom" fmla="*/ 1253160 h 250668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00"/>
                </a:moveTo>
                <a:arcTo wR="10800" hR="10800" stAng="10800000" swAng="53878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7895"/>
              </a:path>
            </a:pathLst>
          </a:custGeom>
          <a:noFill/>
          <a:ln w="12600">
            <a:solidFill>
              <a:srgbClr val="fdc0e5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8160" y="2673360"/>
            <a:ext cx="993600" cy="2506680"/>
          </a:xfrm>
          <a:custGeom>
            <a:avLst/>
            <a:gdLst>
              <a:gd name="textAreaLeft" fmla="*/ 0 w 993600"/>
              <a:gd name="textAreaRight" fmla="*/ 496800 w 993600"/>
              <a:gd name="textAreaTop" fmla="*/ 0 h 2506680"/>
              <a:gd name="textAreaBottom" fmla="*/ 1253160 h 250668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00"/>
                </a:moveTo>
                <a:arcTo wR="10800" hR="10800" stAng="10800000" swAng="538789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7895"/>
              </a:path>
            </a:pathLst>
          </a:custGeom>
          <a:noFill/>
          <a:ln w="12600">
            <a:solidFill>
              <a:srgbClr val="fdc0e5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1760" y="2530440"/>
            <a:ext cx="2303640" cy="824040"/>
          </a:xfrm>
          <a:custGeom>
            <a:avLst/>
            <a:gdLst>
              <a:gd name="textAreaLeft" fmla="*/ 1151640 w 2303640"/>
              <a:gd name="textAreaRight" fmla="*/ 2303640 w 2303640"/>
              <a:gd name="textAreaTop" fmla="*/ 0 h 824040"/>
              <a:gd name="textAreaBottom" fmla="*/ 411840 h 82404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ffff"/>
            </a:solidFill>
            <a:miter/>
            <a:head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46640" y="2295360"/>
            <a:ext cx="2303640" cy="822600"/>
          </a:xfrm>
          <a:custGeom>
            <a:avLst/>
            <a:gdLst>
              <a:gd name="textAreaLeft" fmla="*/ 0 w 2303640"/>
              <a:gd name="textAreaRight" fmla="*/ 1151640 w 2303640"/>
              <a:gd name="textAreaTop" fmla="*/ 0 h 822600"/>
              <a:gd name="textAreaBottom" fmla="*/ 411120 h 822600"/>
            </a:gdLst>
            <a:ahLst/>
            <a:rect l="textAreaLeft" t="textAreaTop" r="textAreaRight" b="textAreaBottom"/>
            <a:pathLst>
              <a:path stroke="0" w="21600" h="21600">
                <a:moveTo>
                  <a:pt x="0" y="10800"/>
                </a:moveTo>
                <a:arcTo wR="10800" hR="10800" stAng="10800000" swAng="539477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4775"/>
              </a:path>
            </a:pathLst>
          </a:custGeom>
          <a:noFill/>
          <a:ln w="25560">
            <a:solidFill>
              <a:srgbClr val="ffffff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2280" y="2298600"/>
            <a:ext cx="2852640" cy="1936800"/>
          </a:xfrm>
          <a:custGeom>
            <a:avLst/>
            <a:gdLst>
              <a:gd name="textAreaLeft" fmla="*/ 1426320 w 2852640"/>
              <a:gd name="textAreaRight" fmla="*/ 2852640 w 2852640"/>
              <a:gd name="textAreaTop" fmla="*/ 0 h 1936800"/>
              <a:gd name="textAreaBottom" fmla="*/ 968400 h 193680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c1ceff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74000" y="1658880"/>
            <a:ext cx="973080" cy="3413160"/>
          </a:xfrm>
          <a:custGeom>
            <a:avLst/>
            <a:gdLst>
              <a:gd name="textAreaLeft" fmla="*/ 486360 w 973080"/>
              <a:gd name="textAreaRight" fmla="*/ 973080 w 973080"/>
              <a:gd name="textAreaTop" fmla="*/ 1706400 h 3413160"/>
              <a:gd name="textAreaBottom" fmla="*/ 3413160 h 34131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618ffd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9000" y="4816440"/>
            <a:ext cx="3056040" cy="658800"/>
          </a:xfrm>
          <a:custGeom>
            <a:avLst/>
            <a:gdLst>
              <a:gd name="textAreaLeft" fmla="*/ 1527840 w 3056040"/>
              <a:gd name="textAreaRight" fmla="*/ 3056040 w 3056040"/>
              <a:gd name="textAreaTop" fmla="*/ 329400 h 658800"/>
              <a:gd name="textAreaBottom" fmla="*/ 658800 h 65880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618ffd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54440" y="5208480"/>
            <a:ext cx="3056040" cy="658800"/>
          </a:xfrm>
          <a:custGeom>
            <a:avLst/>
            <a:gdLst>
              <a:gd name="textAreaLeft" fmla="*/ 1527840 w 3056040"/>
              <a:gd name="textAreaRight" fmla="*/ 3056040 w 3056040"/>
              <a:gd name="textAreaTop" fmla="*/ 329400 h 658800"/>
              <a:gd name="textAreaBottom" fmla="*/ 658800 h 65880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618ffd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1680" y="5567400"/>
            <a:ext cx="3056040" cy="658800"/>
          </a:xfrm>
          <a:custGeom>
            <a:avLst/>
            <a:gdLst>
              <a:gd name="textAreaLeft" fmla="*/ 1527840 w 3056040"/>
              <a:gd name="textAreaRight" fmla="*/ 3056040 w 3056040"/>
              <a:gd name="textAreaTop" fmla="*/ 329400 h 658800"/>
              <a:gd name="textAreaBottom" fmla="*/ 658800 h 65880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618ffd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42120" y="1827360"/>
            <a:ext cx="973080" cy="3412800"/>
          </a:xfrm>
          <a:custGeom>
            <a:avLst/>
            <a:gdLst>
              <a:gd name="textAreaLeft" fmla="*/ 486360 w 973080"/>
              <a:gd name="textAreaRight" fmla="*/ 973080 w 973080"/>
              <a:gd name="textAreaTop" fmla="*/ 1706400 h 3412800"/>
              <a:gd name="textAreaBottom" fmla="*/ 3412800 h 341280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618ffd"/>
            </a:solidFill>
            <a:miter/>
            <a:tailEnd len="med" type="triangle" w="med"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0" y="5692680"/>
            <a:ext cx="1309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ýš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13200" y="4103640"/>
            <a:ext cx="1401480" cy="585720"/>
          </a:xfr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62280" y="4014720"/>
            <a:ext cx="1401840" cy="585720"/>
          </a:xfr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79840" y="3913200"/>
            <a:ext cx="1401840" cy="585720"/>
          </a:xfr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1280" y="1440000"/>
            <a:ext cx="4297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íže – velkoprostorová konden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27840" y="1384200"/>
            <a:ext cx="25290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rtikální mohutnost tlakové níže – a vůbec důležitý 3D pohled na počasí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podceňovat výškové mapy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4480" y="2631960"/>
            <a:ext cx="3459240" cy="237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979640"/>
            <a:ext cx="64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440000"/>
            <a:ext cx="877248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mělká (přízemní) tlaková níž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– typicky v létě, ve dne, nad kontinentem – Španělsko, Austrálie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ajdete jí jen na přízemních mapá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hřátý vzduch nad kontinentem je lehčí a řidší než okolní vzduch (nad mořem). Ve výšce 2,5 – 3 km nad zemí mizí a naopak se vysktuje tlaková výš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lušné plachtařské počasí, nicméně často jen s plochou kupovitou oblačností nebo úplně bez ní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vysoká tlaková níž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– najdete ji i na výškových mapách 500, 300 hPa – výrazná vrstevnatá oblačnost, srážky.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 nás typicky „frontální níže“ od SZ (původem kolem Islandu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d JZ může být i zestárlým hurikánem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82720" y="1260360"/>
            <a:ext cx="8155080" cy="56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výšková tlaková níž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=&gt;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strašák plachtaře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askočí toho, kdo nekouká na výškové mapy </a:t>
            </a:r>
            <a:r>
              <a:rPr b="0" lang="en-GB" sz="3200" spc="-1" strike="noStrike">
                <a:solidFill>
                  <a:srgbClr val="e6e6e6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není vidět na přízemní mapě, ale již v 850, 700 hPa ano. Na přízemní mapě nevýrazné tlakové pole nebo i tlaková výše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ůže se udržet i 14 dnů na jednom místě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áno typicky jasno, během poledního zadekováno s přeháňkami, bouřkami.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1439640"/>
            <a:ext cx="877248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tlaková výš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jně jako níže může být přízemní, vysoká nebo výšková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 středu výše převládají sestupné pohyby (cm/hod) – vzduch se ohřívá a vysušuje = subsiden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 výrazných výší (třeba 1040 hPa) může být subsidence velmi výrazná =&gt; vznik subsidenční inverz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bsidenční inverze =&gt;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strašák plachtař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ca 1 km nad zemí – většinou zastaví termiku, velmi stabilní vrstva vzduchu.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ysoké hory X rovin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přeceňovat tedy mohutné tlakové výše, nebe může být plechové se slabýma stoupákama do 600 m AG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bsah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260000"/>
            <a:ext cx="877248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93000"/>
              </a:lnSpc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ocha klimatologi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suvka 1 – tlaková níže, tlaková výš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suvka 2 – transformace vzduchové hmot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93000"/>
              </a:lnSpc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93000"/>
              </a:lnSpc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řední Evrop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suvka 3 – roviny, hor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93000"/>
              </a:lnSpc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806436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79640" y="1440000"/>
            <a:ext cx="6480000" cy="54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Takže POZOR!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počasí v oblasti středů mohutných tlakových výší bývá často provázené „</a:t>
            </a:r>
            <a:r>
              <a:rPr b="1" lang="cs-CZ" sz="3200" spc="-1" strike="noStrike">
                <a:solidFill>
                  <a:srgbClr val="e6e6e6"/>
                </a:solidFill>
                <a:latin typeface="Times New Roman"/>
              </a:rPr>
              <a:t>plechovým nebem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“ , kdy je jen čistá termika s nízkým dostupem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MNOHO plachtařů se již MNOHOKRÁT napálilo na což padlo zbytečně MNOHO dní dovolené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výrazné tlakové pole (žádná výše, žádná níže a navíc: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“izobary daleko od sebe”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) – nejsou vertikální pohyby synoptického měřítka jako v níži nebo výši. Opět záleží hodně na tom, co je ve výšce – pokud níže tak počasí stojí za prd... Pokud je ve výšce tlaková výše tak je to spíše dobře – nebude pasivní oblačnost (cirry). //Subsidenční inverze se u výškové výše nemusíme obávat (viz. její vznik)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v místě nevýrazného tlakového pole se po pár dnech „upeče“ tzv. </a:t>
            </a:r>
            <a:r>
              <a:rPr b="1" lang="cs-CZ" sz="3200" spc="-1" strike="noStrike">
                <a:solidFill>
                  <a:srgbClr val="e6e6e6"/>
                </a:solidFill>
                <a:latin typeface="Times New Roman"/>
              </a:rPr>
              <a:t>místní vzduchová hmot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a tu mají plachtaři rádi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červenec 1994, 1998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charakter počasí v ní udává hlavně intenzita slunečního záření a podkla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97912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 - insola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0360" y="1618920"/>
            <a:ext cx="9360000" cy="62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tenzita slunečního záření (insolace) stoupá od severu směrem k rovníku (na jižní polokouli obráceně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ávisí na množství oblačnost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 kombinace obojího vyplývá, že bude nejvyšší právě někde kolem 30 st ZŠ na severní i jižní polokouli (v době místní letní sezóny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kombinaci s konfigurací terénu a synoptickou situací má zásadní vliv na dostup stoupáků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568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 - insola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4211640" cy="5059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79640" y="1618920"/>
            <a:ext cx="52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3000"/>
              </a:lnSpc>
              <a:spcBef>
                <a:spcPts val="700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loušťka vrstvy v hPa, ve které je zvrstvení změněno insolací z izotermické vrstvy na adiabatickou pro různá místa na zemi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 nás max 1000 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Rieti kolem 2000 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Alice Springs 2500 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rabský poloostrov 3000 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 - insola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ůže tedy někdy překonat i vliv subsidenční inverze, jen začne počasí později, až se vzduch prohřeje na správnou teplotu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našich zeměpisných šířkách se ale nemusíme dočkat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aké není všemocná a inverzi přeprat nemusí, pokud je inverze hodně mohutná... třeba inverzi pasátovou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908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  <a:ea typeface="DejaVuSans"/>
              </a:rPr>
              <a:t>plachtařská klimatologie - inso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82296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5520" indent="-320760">
              <a:lnSpc>
                <a:spcPct val="90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redukce tloušky adiabatické vrstvy vlivem obla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8/8 Ci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8/8 As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8/8 Sc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8/8 Ns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0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Jak říkají někteří známí plachtaři:                 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„Na cirry se vykašli“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(v Texasu ano...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DejaVu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 předchozího vyplývá, že jsou na zemi místa, kde se dá v sezóně plachtit téměř každý den. Což by už člověk taky očekával, když se tam trmácí přes půl zeměkoule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icméně na kvlitu plachtařského výkonu má taky vliv velikosti oblasti s tímto počasí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Rieti nebo v Provance se taky dá v sezóně slušně lítat každý den, ale tisícovky se tam nelítaj.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lima = dlouhodobý stav atmosfé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dpoví nám (z větší části) na otázku „proč jezdíme plachtit přes půl světa do Austrálie, Namíbie nebo do Provance?“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 hlavně zajímá plachtař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kvalita plachtařského počasí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očet letových dnů do roka (v sezóně)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odoužení sezóny (jaro, léto, podzim, zima)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lké relativně homogení oblasti – jih Afriky, Austrálie =&gt; delší přele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ak trochu kompromis Španělsk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enší spolehivé oblasti Rieti, Provance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(určitě je jich mnohem víc, tohle je jen namátkou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ižní polokoule má výhodu, že se tam lítá v „zimě“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1200" indent="-31752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liv nadmořské výšky krajin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ic není absolutní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desi v Austrálii se konaly plachtařské závody v místě, kde 50 let nepršelo... V termínu závodů pršelo 14 dnů v kuse. Až z toho vzniklo známé plachtařské rčení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hcete-li zavlažit Saharu, uspořádejte tam plachtařské závody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vsuvka 2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e6e6e6"/>
                </a:solidFill>
                <a:latin typeface="Times New Roman"/>
              </a:rPr>
              <a:t>transformace vzduchové hmo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hodně lidí kouká večer na obrázky z družice a hledají jestli byly během dne kumuly ve směru „odkud se k nám nasouvá počasí“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při Z situacích do Německa, při S a SV situacích do Polska, při JV do Maďarska..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vsuvka 2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to by byla pouhá </a:t>
            </a:r>
            <a:r>
              <a:rPr b="1" lang="cs-CZ" sz="3200" spc="-1" strike="noStrike">
                <a:solidFill>
                  <a:srgbClr val="e6e6e6"/>
                </a:solidFill>
                <a:latin typeface="Times New Roman"/>
              </a:rPr>
              <a:t>transpozi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vzduchová hmota se ale při své cestě kontinentem i mění „</a:t>
            </a:r>
            <a:r>
              <a:rPr b="1" lang="cs-CZ" sz="3200" spc="-1" strike="noStrike">
                <a:solidFill>
                  <a:srgbClr val="e6e6e6"/>
                </a:solidFill>
                <a:latin typeface="Times New Roman"/>
              </a:rPr>
              <a:t>transformuje</a:t>
            </a: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“ - většinou to znamená, že získává vlastnosti od povrchu země, na změny jejích vlastností ale stále mají vliv i synoptické vlivy (viz. počasí v tlakových výších a nížích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vsuvka 2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obecně se u nás z plachtařského pohledu berou za kvalitní vzduchové hmoty od severu a severovýchodu (někde ze Skandinávie nebo kolem Petrohradu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studená vzduchová hmota se cestou k nám od spodu (od země) prohřívá a zůstává labilní i po té co k nám dorazí, většinou je ale vertikálně omezená na 1,5 až 2 km (někdy víc, někdy míň)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vsuvka 2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vertikální omezenost je dobrá z pohledu „převývoje“ - nevznikají přeháňky a bouřky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ALE – díky rozlévání vzduchové hmoty do stran se může její tloušťka snížit až pod KKH a kumuly už být nemusí, i když „včera“ v Německu a nebo Polsku bylo počasí „jako noha“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vsuvka 2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440000"/>
            <a:ext cx="9539280" cy="54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rozlévání vzduchové hmoty vede ke vzniku subs. inv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00360" y="2122560"/>
            <a:ext cx="65228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Jak je na tom střední Evropa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1240" y="1618920"/>
            <a:ext cx="877248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lativně nehomogení terén – různorodé počasí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enší kontinentalita klimatu – častější střídání počasí (níže, výše, fronty...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vyzpytatelné počasí již na několik dní dopřed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příliš vysoký počet dnů s „velmi dobrým“ plachtařským počasí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atím ale nepořádáme mistrovství republiky ve Španělsku nebo Polsku jako Angličani </a:t>
            </a:r>
            <a:r>
              <a:rPr b="0" lang="en-GB" sz="3200" spc="-1" strike="noStrike">
                <a:solidFill>
                  <a:srgbClr val="e6e6e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řední Evrop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ozsáhlé roviny – Polsko, Ukrajina (vyšší kontinentalita), Maďarsko – Puszt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horkatiny – Českomoravská vrchovina, Schwarzwald, Schwabishe Alb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ry – Fatra, Tatry, Alpy, Krkonoše, Šumava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řední Evrop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 IGC souborů ze střední Evropy vyplývá, že nejvýhodnější by byla krajina členitá asi jako Českomorvská vrchovina s nadmořskou výškou terénu od 500 do 800 m... Až si budem nechat stavět nějakou planetu ať víme co objednat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dnebné pásy (opakování ze ZŠ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tenzita slunečního záření =&gt; plachtařské podmínk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ontinentalita, orografie =&gt; homogenita počasí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3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1240" y="1619280"/>
            <a:ext cx="877248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rovnání rovinné krajiny a hornaté krajin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aždé má své „špecifiká“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ad rovinnou krajinou se může vyskytovat homogenní počasí a více se uplatňují klasické synoptické vlivy – třeba subsidenční inverz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ozsáhlé horské oblasti mohou mít zcela specifické mikroklima a klasické vlivy se tam mohou uplatňovat méně nebo i vůbec - Alpy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3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rská krajina je obecně zajímavější než „nudná“ rovin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yšší hory (nad 1500 m) často úplně vyruší vliv subsidenční inverze a také při stabilnějším teplotním zvrstvení nemusí být vzduch nad horami úplně mrtvý v porovnání s rovinou =&gt; „horská adiabata“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3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1619280"/>
            <a:ext cx="877248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„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rská adiabata“ - v praxi je vypozorováno, že v horském terénu je výška základen výše než by odpovídalo suchoadiabatickému gradientu  a rozdílu vlhkosti u země než je v rovinném terénu. V Alpách s vrcholky kolem 3000 m by „horská adiabata“ měla hodnotu </a:t>
            </a:r>
            <a:r>
              <a:rPr b="1" lang="en-GB" sz="3200" spc="-1" strike="noStrike">
                <a:solidFill>
                  <a:srgbClr val="e6e6e6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= 0,7°C/100m, pro Krkonoše s převýšením kopců vůči okolnímu terénu kolem 800 m cca </a:t>
            </a:r>
            <a:r>
              <a:rPr b="1" lang="en-GB" sz="3200" spc="-1" strike="noStrike">
                <a:solidFill>
                  <a:srgbClr val="e6e6e6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e6e6e6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= 0,85°C/100m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spcBef>
                <a:spcPts val="799"/>
              </a:spcBef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ví se proč to tak je, ale je to potvrzeno praktickými zkušenostmi </a:t>
            </a:r>
            <a:r>
              <a:rPr b="0" lang="en-GB" sz="3200" spc="-1" strike="noStrike">
                <a:solidFill>
                  <a:srgbClr val="e6e6e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3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57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horách jsou navíc stoupáky generovány na stejných místech vlivem konstelace terénu, proudění a slunečního záření – je důležitější místní znalos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avíc pokud fouká může být počasí nad horami ještě zajímavější </a:t>
            </a:r>
            <a:r>
              <a:rPr b="0" lang="en-GB" sz="3200" spc="-1" strike="noStrike">
                <a:solidFill>
                  <a:srgbClr val="e6e6e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výhody se projeví při velké vlhkosti a labilitě vzduchu, kdy využitelný termický interval může být takřka nevyužitelný... 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8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8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3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1240" y="1440000"/>
            <a:ext cx="877248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výhodou mohou být izolované hory v rovině, kdy nad horami je lať a v okolí hor naprosto mrtvo díky vytvoření místní cirkulace, kdy v okolí hor vzduch klesá a nad horami stoupá, takže se z hor nedá odletět do jiných termických lovišť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 „turisty“ a začátečníky může být nevýhodou malá nebo žádná místní znalost hor při různých druzích počasí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ad hornatým terénem je také větší četnost výskytu přeháněk a bouřek, pasivní oblačnosti a srážek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301320"/>
            <a:ext cx="86043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9966"/>
                </a:solidFill>
                <a:latin typeface="Arial"/>
              </a:rPr>
              <a:t>Kde u nás hledat/čekat nejlepší plachtařské počasí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okrajové oblasti tlakových výší zasahujících do střední Evropy od sever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e6e6e6"/>
                </a:solidFill>
                <a:latin typeface="Times New Roman"/>
              </a:rPr>
              <a:t>jaro, začátek lét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nevýrazné tlakové pole, nejlépe déletrvající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e6e6e6"/>
                </a:solidFill>
                <a:latin typeface="Times New Roman"/>
              </a:rPr>
              <a:t>lét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e6e6e6"/>
                </a:solidFill>
                <a:latin typeface="Times New Roman"/>
              </a:rPr>
              <a:t>nefrontální mělké tlakové níž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e6e6e6"/>
                </a:solidFill>
                <a:latin typeface="Times New Roman"/>
              </a:rPr>
              <a:t>konec jara, lét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dnebné pás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ozložení tlaku na zemi + intenzita slunečního záření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lasti nižšího tlaku vzuchu (rovník a 60 st ZŠ) - deštivější oblast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0">
              <a:lnSpc>
                <a:spcPct val="93000"/>
              </a:lnSpc>
              <a:buNone/>
              <a:tabLst>
                <a:tab algn="l" pos="0"/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lasti vyššího tlaku vzduchu ( cca 30 st ZŠ) - sušší oblast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9400" y="1440000"/>
            <a:ext cx="674064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9240" y="1440000"/>
            <a:ext cx="570384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achtařská klimatolog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14480" y="1440000"/>
            <a:ext cx="788976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suvka 1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laková výše, tlaková níž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ůležité - vertikální pohyby vzduchu uvnitř tlakových útvarů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lmi slabé vzestupné pohyby synoptického měřítka uvnitř tlakové níže (řádově centimetry/hod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aopak slabé sestupné pohyby v tlakové výš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Horák</dc:creator>
  <dc:description/>
  <dc:language>en-US</dc:language>
  <cp:lastModifiedBy/>
  <cp:revision>0</cp:revision>
  <dc:subject/>
  <dc:title/>
</cp:coreProperties>
</file>