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BD9A-5D1D-40C9-B7B1-E5756BE3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C755-AEEE-49FC-ACD0-3AF2622C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909F-4A3C-40CB-9290-6F25354B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A149-5942-44CA-81A4-D04FAB97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9DCB-15BB-456C-830E-9D4D488A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DCC0-5A0D-4139-9159-22DBF223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7FF6-D52E-44DB-BCBA-A48F7612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010A-0356-4101-A59A-02AD5201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0D06-A33C-4236-8ED9-7F79799C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E83C-C0CD-494A-ABC1-6365D8C6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1E4C-B30D-4924-97FE-355D4A74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A6D2-6198-44E9-BC1E-8C08195D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6D98-7AA2-4DF2-9EF2-4EEFDF5E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DD13-D841-4661-91A2-20828855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7657-F320-4F32-9E37-99934ADA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2C4C-DDB2-4280-A5C5-2761B4A4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BDE5-D633-43A4-AFCE-FC113BCA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1F2E-F805-4C5C-8935-B94CA3A4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E273-9CE0-40DE-B774-95F89278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8DCD-D06C-4B29-9554-AD428E2D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B9AD-82E0-46D6-8468-C36CB46F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C6A3-CEA7-4C45-9F53-BBE1913C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9246-581C-4E16-BD17-98AED4BD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FEB-D8D2-483E-8193-FECFAB6D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CC85-9995-49B6-B42D-E860A484D55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4BF6-A303-4E22-A269-38A7568A1E6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liding.cz/souteze" TargetMode="External"/><Relationship Id="rId2" Type="http://schemas.openxmlformats.org/officeDocument/2006/relationships/hyperlink" Target="http://www.gliding.cz/souteze" TargetMode="External"/><Relationship Id="rId3" Type="http://schemas.openxmlformats.org/officeDocument/2006/relationships/hyperlink" Target="http://www.gliding.cz/souteze" TargetMode="External"/><Relationship Id="rId4" Type="http://schemas.openxmlformats.org/officeDocument/2006/relationships/hyperlink" Target="http://www.gliding.cz/souteze" TargetMode="External"/><Relationship Id="rId5" Type="http://schemas.openxmlformats.org/officeDocument/2006/relationships/hyperlink" Target="http://www.gliding.cz/souteze" TargetMode="External"/><Relationship Id="rId6" Type="http://schemas.openxmlformats.org/officeDocument/2006/relationships/hyperlink" Target="http://www.gliding.cz/souteze" TargetMode="Externa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rvní plachtařské závody</a:t>
            </a:r>
            <a:br>
              <a:rPr sz="4400"/>
            </a:b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cbcbcb"/>
                </a:solidFill>
                <a:latin typeface="Times New Roman"/>
              </a:rPr>
              <a:t>… aneb postřehy pro začínajícího závodníka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49528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arek Švanca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Co je dobré si zajistit pro účast na závodech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- kluzák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- transportní vozí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- auto s tažným zařízení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- padá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- záznamové zařízení GNSS FR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Schválená záznamová zařízení jsou uvedena na webové adrese http://www.fai.org/gliding/gns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DALŠÍ INFORMACE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Uveďte zde umístění nebo kontakt na podrobný časový plán                                                                          (nebo jiné odpovídající dokumenty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480680" y="3352680"/>
            <a:ext cx="6444000" cy="1593000"/>
            <a:chOff x="1480680" y="3352680"/>
            <a:chExt cx="6444000" cy="1593000"/>
          </a:xfrm>
        </p:grpSpPr>
        <p:sp>
          <p:nvSpPr>
            <p:cNvPr id="118" name=""/>
            <p:cNvSpPr/>
            <p:nvPr/>
          </p:nvSpPr>
          <p:spPr>
            <a:xfrm>
              <a:off x="1523880" y="4267080"/>
              <a:ext cx="6400800" cy="486000"/>
            </a:xfrm>
            <a:prstGeom prst="rightArrow">
              <a:avLst>
                <a:gd name="adj1" fmla="val 36602"/>
                <a:gd name="adj2" fmla="val 54145"/>
              </a:avLst>
            </a:prstGeom>
            <a:gradFill rotWithShape="0">
              <a:gsLst>
                <a:gs pos="0">
                  <a:srgbClr val="00ffcc"/>
                </a:gs>
                <a:gs pos="100000">
                  <a:srgbClr val="00ccff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00200" y="3352680"/>
              <a:ext cx="2438280" cy="15264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ffffff"/>
                  </a:solidFill>
                  <a:latin typeface="Arial"/>
                </a:rPr>
                <a:t>Fáze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38480" y="3657600"/>
              <a:ext cx="1905120" cy="15228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ffffff"/>
                  </a:solidFill>
                  <a:latin typeface="Arial"/>
                </a:rPr>
                <a:t>Fáze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43600" y="3962520"/>
              <a:ext cx="1676520" cy="15228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ffffff"/>
                  </a:solidFill>
                  <a:latin typeface="Arial"/>
                </a:rPr>
                <a:t>Fáze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480680" y="4635360"/>
              <a:ext cx="6180840" cy="310320"/>
              <a:chOff x="1480680" y="4635360"/>
              <a:chExt cx="6180840" cy="310320"/>
            </a:xfrm>
          </p:grpSpPr>
          <p:sp>
            <p:nvSpPr>
              <p:cNvPr id="123" name=""/>
              <p:cNvSpPr/>
              <p:nvPr/>
            </p:nvSpPr>
            <p:spPr>
              <a:xfrm>
                <a:off x="1480680" y="463536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L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982880" y="4635360"/>
                <a:ext cx="525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Ún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463480" y="463860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B</a:t>
                </a: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</a:rPr>
                  <a:t>ř</a:t>
                </a: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78280" y="4635360"/>
                <a:ext cx="525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Du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482640" y="4638600"/>
                <a:ext cx="50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</a:rPr>
                  <a:t>Kvě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25880" y="4638600"/>
                <a:ext cx="516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</a:rPr>
                  <a:t>Č</a:t>
                </a: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e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36720" y="4638600"/>
                <a:ext cx="50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</a:rPr>
                  <a:t>Č</a:t>
                </a: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e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631840" y="4638600"/>
                <a:ext cx="45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Zá</a:t>
                </a: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</a:rPr>
                  <a:t>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155640" y="4638600"/>
                <a:ext cx="40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</a:rPr>
                  <a:t>Ř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íj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649200" y="4635360"/>
                <a:ext cx="43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Li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183440" y="463536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Pr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089320" y="463536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ffffff"/>
                    </a:solidFill>
                    <a:latin typeface="Arial"/>
                  </a:rPr>
                  <a:t>Sr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5" name="PMRg2010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36" name="PMRg2010%20046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Doklady soutěžícíh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sobní doklady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latný průkaz pilota kluzák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latný průkaz radiotelefonis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pisník let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bčanský průka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růkaz člena AeČR s platnou známk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oklady o kluzáku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alubní deník kluzák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latné potvrzení o údržbě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latné OL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svědčení o zápisu kluzáku do leteckého rejstřík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osvědčení o zaplacení povinného ručení kluzák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latné povolení letadlové radiostan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znamník padák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MRg%202009%200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rvní den závodů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egistrace soutěžícíh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áž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rada účastníků soutěž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bytová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MRg2010%20047" descr=""/>
          <p:cNvPicPr/>
          <p:nvPr/>
        </p:nvPicPr>
        <p:blipFill>
          <a:blip r:embed="rId1"/>
          <a:stretch/>
        </p:blipFill>
        <p:spPr>
          <a:xfrm>
            <a:off x="-5181480" y="-4572000"/>
            <a:ext cx="19506960" cy="146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rogram soutěžního dne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vění letadel na gri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brief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prava na soutěžní l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outěžní disciplí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devzdání IGC soubor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egenerace (doplnění tekuti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MRg2010%20049" descr=""/>
          <p:cNvPicPr/>
          <p:nvPr/>
        </p:nvPicPr>
        <p:blipFill>
          <a:blip r:embed="rId1"/>
          <a:stretch/>
        </p:blipFill>
        <p:spPr>
          <a:xfrm>
            <a:off x="-5181480" y="-3886200"/>
            <a:ext cx="19506960" cy="146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Typy soutěžních disciplín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ychlostní lety po deklarované tra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ychlostní úloha přes určené pros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Calibri"/>
              </a:rPr>
              <a:t>http://www.lkka.cz/sport/pk_aecr.htm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zpos2" descr=""/>
          <p:cNvPicPr/>
          <p:nvPr/>
        </p:nvPicPr>
        <p:blipFill>
          <a:blip r:embed="rId1"/>
          <a:stretch/>
        </p:blipFill>
        <p:spPr>
          <a:xfrm>
            <a:off x="3257640" y="2033640"/>
            <a:ext cx="2628720" cy="2789280"/>
          </a:xfrm>
          <a:prstGeom prst="rect">
            <a:avLst/>
          </a:prstGeom>
          <a:ln w="0">
            <a:noFill/>
          </a:ln>
        </p:spPr>
      </p:pic>
      <p:pic>
        <p:nvPicPr>
          <p:cNvPr id="92" name="PMRg%202009%20001" descr=""/>
          <p:cNvPicPr/>
          <p:nvPr/>
        </p:nvPicPr>
        <p:blipFill>
          <a:blip r:embed="rId2"/>
          <a:stretch/>
        </p:blipFill>
        <p:spPr>
          <a:xfrm>
            <a:off x="-5181480" y="-3886200"/>
            <a:ext cx="19506960" cy="146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how" descr=""/>
          <p:cNvPicPr/>
          <p:nvPr/>
        </p:nvPicPr>
        <p:blipFill>
          <a:blip r:embed="rId1"/>
          <a:stretch/>
        </p:blipFill>
        <p:spPr>
          <a:xfrm>
            <a:off x="1828800" y="762120"/>
            <a:ext cx="5002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image002_std" descr=""/>
          <p:cNvPicPr/>
          <p:nvPr/>
        </p:nvPicPr>
        <p:blipFill>
          <a:blip r:embed="rId1"/>
          <a:stretch/>
        </p:blipFill>
        <p:spPr>
          <a:xfrm>
            <a:off x="-304920" y="-55440"/>
            <a:ext cx="9677520" cy="6992640"/>
          </a:xfrm>
          <a:prstGeom prst="rect">
            <a:avLst/>
          </a:prstGeom>
          <a:ln w="0">
            <a:noFill/>
          </a:ln>
        </p:spPr>
      </p:pic>
      <p:pic>
        <p:nvPicPr>
          <p:cNvPr id="151" name="dsc_3617_std" descr=""/>
          <p:cNvPicPr/>
          <p:nvPr/>
        </p:nvPicPr>
        <p:blipFill>
          <a:blip r:embed="rId2"/>
          <a:stretch/>
        </p:blipFill>
        <p:spPr>
          <a:xfrm>
            <a:off x="-838080" y="-165240"/>
            <a:ext cx="10820160" cy="718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Odletová procedur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dletová páska je otevřena vždy 20 minut po vzletu posledního soutěžícího v platném startovním pořadí v dané třídě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známení o otevření odletu je vyhlášeno rádiem (celkem 4x)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dsc_3758_st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Cílová procedur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ro přílety je využíván tzv. cílový kruh. Zpravidla o poloměru 2 nebo 3 km a se středem situovaným ve vztažném bodu soutěžního letiště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inimální výška pro dosažení cílového kruhu není stanovena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image005_st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Doletové postup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outěžící nahlásí pátý kilometr od vztažného bodu letiště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 protnutí cílového kruhu je nutno bez zbytečného prodlení přistá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i rádiové korespondenci soutěžící vždy uvede svoje startovní čísl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dsc09467_st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image007_std" descr=""/>
          <p:cNvPicPr/>
          <p:nvPr/>
        </p:nvPicPr>
        <p:blipFill>
          <a:blip r:embed="rId2"/>
          <a:stretch/>
        </p:blipFill>
        <p:spPr>
          <a:xfrm>
            <a:off x="-685800" y="-12600"/>
            <a:ext cx="10439280" cy="70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řistání do terén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istání do terénu musí soutěžící urychleně oznámit pořadatel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ransporty po přistání do terénu si soutěžící zajišťují sam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řadatel v případě zájmu zajišťuje pouze zpětné převleky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dsc_3634_st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Co je cílem soutěží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rovnání výkonnosti jednotlivých pilot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anovení bodů do žebříku pilot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anovení nominací na soutěže pro další r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rohloubit přátelství mezi piloty z různých aeroklub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A kolik mě to bude stát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rtovné 2000 až 5500,- K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lek do 600 m cca 600,- K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bytování 100 až 200,- Kč/no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elodenní strava cca 150,- Kč/d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image007_st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dsc09467_std" descr=""/>
          <p:cNvPicPr/>
          <p:nvPr/>
        </p:nvPicPr>
        <p:blipFill>
          <a:blip r:embed="rId2"/>
          <a:stretch/>
        </p:blipFill>
        <p:spPr>
          <a:xfrm>
            <a:off x="-685800" y="-22320"/>
            <a:ext cx="1043928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MRg%202009%200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Závody v České republ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řádané ve spolupráci AeČR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istrovství Č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istrovství ČR juniorů a akademik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istrovství ČR dvousedadlových kluzák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istrovství region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hárové soutěž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- První závod sezóny AZ CUP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- Jarní pohár Jeseník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- Ranský pohá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- … a řada další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DALŠÍ INFORMACE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Uveďte zde umístění nebo kontakt na analýzu  konkurenceschopnosti (nebo jiné odpovídající dokumenty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MRg2010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Jak a kde se přihlásit na soutěž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dáním přihlášky přes webové stránky soutěže přístupné na </a:t>
            </a:r>
            <a:r>
              <a:rPr b="1" lang="cs-CZ" sz="3200" spc="-1" strike="noStrike" u="sng">
                <a:solidFill>
                  <a:srgbClr val="ff3300"/>
                </a:solidFill>
                <a:uFillTx/>
                <a:latin typeface="Arial"/>
                <a:ea typeface="Arial"/>
                <a:hlinkClick r:id="rId1"/>
              </a:rPr>
              <a:t>http://www.</a:t>
            </a:r>
            <a:r>
              <a:rPr b="1" lang="cs-CZ" sz="3200" spc="-1" strike="noStrike" u="sng">
                <a:solidFill>
                  <a:srgbClr val="ff3300"/>
                </a:solidFill>
                <a:uFillTx/>
                <a:latin typeface="Arial"/>
                <a:ea typeface="Arial"/>
                <a:hlinkClick r:id="rId2"/>
              </a:rPr>
              <a:t>gliding</a:t>
            </a:r>
            <a:r>
              <a:rPr b="1" lang="cs-CZ" sz="3200" spc="-1" strike="noStrike" u="sng">
                <a:solidFill>
                  <a:srgbClr val="ff3300"/>
                </a:solidFill>
                <a:uFillTx/>
                <a:latin typeface="Arial"/>
                <a:ea typeface="Arial"/>
                <a:hlinkClick r:id="rId3"/>
              </a:rPr>
              <a:t>.</a:t>
            </a:r>
            <a:r>
              <a:rPr b="1" lang="cs-CZ" sz="3200" spc="-1" strike="noStrike" u="sng">
                <a:solidFill>
                  <a:srgbClr val="ff3300"/>
                </a:solidFill>
                <a:uFillTx/>
                <a:latin typeface="Arial"/>
                <a:ea typeface="Arial"/>
                <a:hlinkClick r:id="rId4"/>
              </a:rPr>
              <a:t>cz</a:t>
            </a:r>
            <a:r>
              <a:rPr b="1" lang="cs-CZ" sz="3200" spc="-1" strike="noStrike" u="sng">
                <a:solidFill>
                  <a:srgbClr val="ff3300"/>
                </a:solidFill>
                <a:uFillTx/>
                <a:latin typeface="Arial"/>
                <a:ea typeface="Arial"/>
                <a:hlinkClick r:id="rId5"/>
              </a:rPr>
              <a:t>/</a:t>
            </a:r>
            <a:r>
              <a:rPr b="1" lang="cs-CZ" sz="3200" spc="-1" strike="noStrike" u="sng">
                <a:solidFill>
                  <a:srgbClr val="ff3300"/>
                </a:solidFill>
                <a:uFillTx/>
                <a:latin typeface="Arial"/>
                <a:ea typeface="Arial"/>
                <a:hlinkClick r:id="rId6"/>
              </a:rPr>
              <a:t>souteze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aplacením tzv. startovnéh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MRg2010%20019a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8:15:50Z</dcterms:created>
  <dc:creator>Marek Švancara</dc:creator>
  <dc:description/>
  <dc:language>en-US</dc:language>
  <cp:lastModifiedBy>Marek Švancara</cp:lastModifiedBy>
  <dcterms:modified xsi:type="dcterms:W3CDTF">2011-02-24T17:44:04Z</dcterms:modified>
  <cp:revision>40</cp:revision>
  <dc:subject/>
  <dc:title>První závody</dc:title>
</cp:coreProperties>
</file>