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B76-3DC1-42EE-81E0-5C6D4E0E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C4D-59E7-4803-838C-D0218629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16D-107E-4FF0-BF90-69DE4C37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18E-BC96-4C2F-8E11-6C999964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D9A7-7943-435E-A3D4-8A816443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A916-E337-4439-8851-DB81B89B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6A46-B828-4B69-96EC-C12D2F88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E233-5490-4561-B693-DE704A6E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7360-017D-47C3-84F4-B10E467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9F48-AE79-43F2-8BEE-A6C0E753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E79E-286D-46F1-B141-01C4F68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694-0DD6-4695-AA3D-7FCD9B94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6CD2-98CF-4A07-B99E-84E931D0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06AC-42AA-43D0-AB94-8610529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037D-1084-4CC2-B1E0-09E0B7A7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858D-0124-4DED-8210-5B270027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23C6-CFA2-4006-B83F-8B32B611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2AE-188E-4E77-B533-A1BFA0C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4D4-365C-4039-A4C6-88903715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3D6-2A5B-4810-AFFD-E8FACC76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D8E-2A9A-47E2-952F-B4DB2489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9F9-E0BB-4688-8AE7-5B07AD5F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2BF-115D-4CA4-A105-59DAD11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586-7559-4470-9A34-92E09FF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EC0E-44E5-4215-BF4A-D528A58A6FD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4714-5BC1-42A4-8FA0-5D74371EE9C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liding.cz/souteze" TargetMode="External"/><Relationship Id="rId2" Type="http://schemas.openxmlformats.org/officeDocument/2006/relationships/hyperlink" Target="http://www.gliding.cz/souteze" TargetMode="External"/><Relationship Id="rId3" Type="http://schemas.openxmlformats.org/officeDocument/2006/relationships/hyperlink" Target="http://www.gliding.cz/souteze" TargetMode="External"/><Relationship Id="rId4" Type="http://schemas.openxmlformats.org/officeDocument/2006/relationships/hyperlink" Target="http://www.gliding.cz/souteze" TargetMode="External"/><Relationship Id="rId5" Type="http://schemas.openxmlformats.org/officeDocument/2006/relationships/hyperlink" Target="http://www.gliding.cz/souteze" TargetMode="External"/><Relationship Id="rId6" Type="http://schemas.openxmlformats.org/officeDocument/2006/relationships/hyperlink" Target="http://www.gliding.cz/souteze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vní plachtařské závody</a:t>
            </a:r>
            <a:br>
              <a:rPr sz="4400"/>
            </a:b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cbcbcb"/>
                </a:solidFill>
                <a:latin typeface="Times New Roman"/>
              </a:rPr>
              <a:t>… aneb postřehy pro začínajícího závodník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4952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rek Švanc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Co je dobré si zajistit pro účast na závodech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kluzá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transportní vozí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auto s tažným zařízení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pad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záznamové zařízení GNSS FR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chválená záznamová zařízení jsou uvedena na webové adrese http://www.fai.org/gliding/gn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DALŠÍ INFORMAC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veďte zde umístění nebo kontakt na podrobný časový plán                                                                          (nebo jiné odpovídající dokument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80680" y="3352680"/>
            <a:ext cx="6444000" cy="1593000"/>
            <a:chOff x="1480680" y="3352680"/>
            <a:chExt cx="6444000" cy="1593000"/>
          </a:xfrm>
        </p:grpSpPr>
        <p:sp>
          <p:nvSpPr>
            <p:cNvPr id="118" name=""/>
            <p:cNvSpPr/>
            <p:nvPr/>
          </p:nvSpPr>
          <p:spPr>
            <a:xfrm>
              <a:off x="1523880" y="4267080"/>
              <a:ext cx="6400800" cy="486000"/>
            </a:xfrm>
            <a:prstGeom prst="rightArrow">
              <a:avLst>
                <a:gd name="adj1" fmla="val 36602"/>
                <a:gd name="adj2" fmla="val 54145"/>
              </a:avLst>
            </a:prstGeom>
            <a:gradFill rotWithShape="0">
              <a:gsLst>
                <a:gs pos="0">
                  <a:srgbClr val="00ffcc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00200" y="3352680"/>
              <a:ext cx="2438280" cy="1526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ffffff"/>
                  </a:solidFill>
                  <a:latin typeface="Arial"/>
                </a:rPr>
                <a:t>Fáze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38480" y="3657600"/>
              <a:ext cx="19051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ffffff"/>
                  </a:solidFill>
                  <a:latin typeface="Arial"/>
                </a:rPr>
                <a:t>Fáze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3600" y="3962520"/>
              <a:ext cx="16765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ffffff"/>
                  </a:solidFill>
                  <a:latin typeface="Arial"/>
                </a:rPr>
                <a:t>Fáze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480680" y="4635360"/>
              <a:ext cx="6180840" cy="310320"/>
              <a:chOff x="1480680" y="4635360"/>
              <a:chExt cx="6180840" cy="310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480680" y="46353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L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82880" y="463536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Ún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63480" y="4638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B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ř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78280" y="463536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Du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82640" y="463860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Kvě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25880" y="4638600"/>
                <a:ext cx="516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Č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e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36720" y="463860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Č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e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31840" y="4638600"/>
                <a:ext cx="45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Zá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55640" y="4638600"/>
                <a:ext cx="40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Ř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íj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49200" y="4635360"/>
                <a:ext cx="43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Li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83440" y="46353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Pr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89320" y="46353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Sr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" name="PMRg201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36" name="PMRg2010%2004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oklady soutěžícíh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obní doklad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ý průkaz pilota kluzá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ý průkaz radiotelefonis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isník let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bčanský průka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ůkaz člena AeČR s platnou známk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klady o kluzáku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alubní deník kluzá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é potvrzení o údržb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é OL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svědčení o zápisu kluzáku do leteckého rejstří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svědčení o zaplacení povinného ručení kluzá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é povolení letadlové radiostan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znamník padá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MRg%202009%20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vní den závodů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gistrace soutěžícíh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áž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rada účastníků soutěž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bytová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MRg2010%20047" descr=""/>
          <p:cNvPicPr/>
          <p:nvPr/>
        </p:nvPicPr>
        <p:blipFill>
          <a:blip r:embed="rId1"/>
          <a:stretch/>
        </p:blipFill>
        <p:spPr>
          <a:xfrm>
            <a:off x="-5181480" y="-45720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ogram soutěžního dn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vění letadel na gr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rief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prava na soutěžní l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outěžní disciplí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evzdání IGC soubor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generace (doplnění tekuti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MRg2010%20049" descr="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ypy soutěžních disciplí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ychlostní lety po deklarované tra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ychlostní úloha přes určené pros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Calibri"/>
              </a:rPr>
              <a:t>http://www.lkka.cz/sport/pk_aecr.htm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zpos2" descr=""/>
          <p:cNvPicPr/>
          <p:nvPr/>
        </p:nvPicPr>
        <p:blipFill>
          <a:blip r:embed="rId1"/>
          <a:stretch/>
        </p:blipFill>
        <p:spPr>
          <a:xfrm>
            <a:off x="3257640" y="2033640"/>
            <a:ext cx="2628720" cy="2789280"/>
          </a:xfrm>
          <a:prstGeom prst="rect">
            <a:avLst/>
          </a:prstGeom>
          <a:ln w="0">
            <a:noFill/>
          </a:ln>
        </p:spPr>
      </p:pic>
      <p:pic>
        <p:nvPicPr>
          <p:cNvPr id="92" name="PMRg%202009%20001" descr=""/>
          <p:cNvPicPr/>
          <p:nvPr/>
        </p:nvPicPr>
        <p:blipFill>
          <a:blip r:embed="rId2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how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002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002_std" descr=""/>
          <p:cNvPicPr/>
          <p:nvPr/>
        </p:nvPicPr>
        <p:blipFill>
          <a:blip r:embed="rId1"/>
          <a:stretch/>
        </p:blipFill>
        <p:spPr>
          <a:xfrm>
            <a:off x="-304920" y="-55440"/>
            <a:ext cx="9677520" cy="6992640"/>
          </a:xfrm>
          <a:prstGeom prst="rect">
            <a:avLst/>
          </a:prstGeom>
          <a:ln w="0">
            <a:noFill/>
          </a:ln>
        </p:spPr>
      </p:pic>
      <p:pic>
        <p:nvPicPr>
          <p:cNvPr id="151" name="dsc_3617_std" descr=""/>
          <p:cNvPicPr/>
          <p:nvPr/>
        </p:nvPicPr>
        <p:blipFill>
          <a:blip r:embed="rId2"/>
          <a:stretch/>
        </p:blipFill>
        <p:spPr>
          <a:xfrm>
            <a:off x="-838080" y="-165240"/>
            <a:ext cx="10820160" cy="71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letová procedur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letová páska je otevřena vždy 20 minut po vzletu posledního soutěžícího v platném startovním pořadí v dané třídě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známení o otevření odletu je vyhlášeno rádiem (celkem 4x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dsc_3758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Cílová procedur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 přílety je využíván tzv. cílový kruh. Zpravidla o poloměru 2 nebo 3 km a se středem situovaným ve vztažném bodu soutěžního letiště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inimální výška pro dosažení cílového kruhu není stanoven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005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oletové postup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outěžící nahlásí pátý kilometr od vztažného bodu letiště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 protnutí cílového kruhu je nutno bez zbytečného prodlení přistá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 rádiové korespondenci soutěžící vždy uvede svoje startovní čísl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dsc09467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image007_std" descr=""/>
          <p:cNvPicPr/>
          <p:nvPr/>
        </p:nvPicPr>
        <p:blipFill>
          <a:blip r:embed="rId2"/>
          <a:stretch/>
        </p:blipFill>
        <p:spPr>
          <a:xfrm>
            <a:off x="-685800" y="-12600"/>
            <a:ext cx="1043928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řistání do terén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stání do terénu musí soutěžící urychleně oznámit pořadatel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ransporty po přistání do terénu si soutěžící zajišťují sam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řadatel v případě zájmu zajišťuje pouze zpětné převleky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dsc_3634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Co je cílem soutěží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rovnání výkonnosti jednotlivých pilot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anovení bodů do žebříku pilot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anovení nominací na soutěže pro další r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ohloubit přátelství mezi piloty z různých aeroklub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A kolik mě to bude stát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rtovné 2000 až 5500,- K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ek do 600 m cca 600,- K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bytování 100 až 200,- Kč/no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lodenní strava cca 150,- Kč/d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007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dsc09467_std" descr=""/>
          <p:cNvPicPr/>
          <p:nvPr/>
        </p:nvPicPr>
        <p:blipFill>
          <a:blip r:embed="rId2"/>
          <a:stretch/>
        </p:blipFill>
        <p:spPr>
          <a:xfrm>
            <a:off x="-685800" y="-22320"/>
            <a:ext cx="104392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MRg%202009%200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ávody v České republ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řádané ve spolupráci AeČR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istrovství Č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istrovství ČR juniorů a akademik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istrovství ČR dvousedadlových kluzák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istrovství region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hárové soutěž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- První závod sezóny AZ CUP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- Jarní pohár Jeseník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- Ranský pohá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- … a řada další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DALŠÍ INFORMAC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veďte zde umístění nebo kontakt na analýzu  konkurenceschopnosti (nebo jiné odpovídající dokument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MRg201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Jak a kde se přihlásit na soutěž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dáním přihlášky přes webové stránky soutěže přístupné na 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"/>
              </a:rPr>
              <a:t>http://www.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2"/>
              </a:rPr>
              <a:t>gliding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3"/>
              </a:rPr>
              <a:t>.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4"/>
              </a:rPr>
              <a:t>cz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5"/>
              </a:rPr>
              <a:t>/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6"/>
              </a:rPr>
              <a:t>souteze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aplacením tzv. startovnéh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MRg2010%20019a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8:15:50Z</dcterms:created>
  <dc:creator>Marek Švancara</dc:creator>
  <dc:description/>
  <dc:language>en-US</dc:language>
  <cp:lastModifiedBy>Marek Švancara</cp:lastModifiedBy>
  <dcterms:modified xsi:type="dcterms:W3CDTF">2011-02-24T17:44:04Z</dcterms:modified>
  <cp:revision>40</cp:revision>
  <dc:subject/>
  <dc:title>První závody</dc:title>
</cp:coreProperties>
</file>