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50C-EA77-42A5-9B3C-6671AF94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493-3CC6-4921-977E-17B54B8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5DC-CA96-41AF-BDB9-325408CC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664-37A9-495B-A0E5-BD8FCB01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39A-25AD-4B38-99C7-4FF9CE7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598-AA37-41AA-AE3E-4227758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90C-07F8-4DDE-A741-275A684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6AD-5857-447B-BEB3-71D0F4C3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FDC-256A-4C2D-B481-3426809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15E-B338-4574-91AA-E2302F4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AA9-EE7D-41C6-9640-45AD4D4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487-6F0B-4204-B7B0-9802F7BF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4816-9412-46BD-A306-BE919C2656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4" descr=""/>
          <p:cNvPicPr/>
          <p:nvPr/>
        </p:nvPicPr>
        <p:blipFill>
          <a:blip r:embed="rId2"/>
          <a:stretch/>
        </p:blipFill>
        <p:spPr>
          <a:xfrm>
            <a:off x="0" y="-2232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43400" y="2009880"/>
            <a:ext cx="703584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 Light"/>
              </a:rPr>
              <a:t>Jarní školení 201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590920"/>
            <a:ext cx="7035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baseline="30000">
                <a:solidFill>
                  <a:srgbClr val="203864"/>
                </a:solidFill>
                <a:latin typeface="Calibri"/>
              </a:rPr>
              <a:t>Letový prostor ČR –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e79"/>
                </a:solidFill>
                <a:latin typeface="Calibri"/>
              </a:rPr>
              <a:t>Osvěžení znalostí, novinky a nové zdroje informac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e79"/>
                </a:solidFill>
                <a:latin typeface="Calibri"/>
              </a:rPr>
              <a:t>Jiří Pruš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ovéPole 1"/>
          <p:cNvSpPr/>
          <p:nvPr/>
        </p:nvSpPr>
        <p:spPr>
          <a:xfrm>
            <a:off x="584280" y="507960"/>
            <a:ext cx="5054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Exkluzivní nezávislý časop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o letectví od profesioná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ety, na které musí být v ČR předložen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šechny lety IFR a kombinované VFR/IFR a IFR/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ty VF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rtující nebo přistávající z vojenských letišť (LKKB, LKCV, LKNA, LKP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do zahraničí (výjimkou bez FPL jsou pouze pro lety do Německa; do Polska pouze v hladině VFR s dráhou letu mimo CTR/TMA letišť a přistáním na neřízeném letišti; na Slovensko a to pouze v hladině VF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ční lety VF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ety VFR nad FL0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 předložení F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FR FPL by měl být v ČR předložen alespoň 3 hod. před EOBT (Estimated Off Block Time) a VFR FPL alespoň 1 hod. před EOBT, jinak nemusí být FPL včas zpracová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4280" y="1468080"/>
            <a:ext cx="10871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ávání letov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ohlašoven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Praha (budoucí centrální ARO Praha, provoz H2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RO Ostrava (ukončení činnosti koncem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self-briefingů 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rlových Var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r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ravě (od konce května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I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poručení A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ádět vždy ve svých FPL telefonní číslo, v případě chyb ve FPL to usnadní a zrychlí nápr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idla platná pro podávání VFR FPL mimo Č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ze získat v AIP nebo VFR příručkách příslušných stá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rn těchto pravidel pro země EU je dolaďován v sekci „pro piloty“ webu www.flying-revue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3560" y="1120320"/>
            <a:ext cx="98820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E:\Seminář ŘLP pro GA 2016\Prezentace\LIS\LKD9.PNG"/>
          <p:cNvPicPr/>
          <p:nvPr/>
        </p:nvPicPr>
        <p:blipFill>
          <a:blip r:embed="rId2"/>
          <a:stretch/>
        </p:blipFill>
        <p:spPr>
          <a:xfrm>
            <a:off x="1185840" y="1049400"/>
            <a:ext cx="6554880" cy="512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E:\Seminář ŘLP pro GA 2016\Prezentace\LIS\LKD9_zoom.PNG"/>
          <p:cNvPicPr/>
          <p:nvPr/>
        </p:nvPicPr>
        <p:blipFill>
          <a:blip r:embed="rId3"/>
          <a:stretch/>
        </p:blipFill>
        <p:spPr>
          <a:xfrm>
            <a:off x="5705640" y="1192320"/>
            <a:ext cx="527184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Ě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ástupný symbol pro obsah 2" descr=""/>
          <p:cNvPicPr/>
          <p:nvPr/>
        </p:nvPicPr>
        <p:blipFill>
          <a:blip r:embed="rId2"/>
          <a:stretch/>
        </p:blipFill>
        <p:spPr>
          <a:xfrm>
            <a:off x="2614680" y="1206360"/>
            <a:ext cx="91566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ŘE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2" descr=""/>
          <p:cNvPicPr/>
          <p:nvPr/>
        </p:nvPicPr>
        <p:blipFill>
          <a:blip r:embed="rId2"/>
          <a:stretch/>
        </p:blipFill>
        <p:spPr>
          <a:xfrm>
            <a:off x="2679840" y="120636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ástupný symbol pro obsah 2" descr=""/>
          <p:cNvPicPr/>
          <p:nvPr/>
        </p:nvPicPr>
        <p:blipFill>
          <a:blip r:embed="rId2"/>
          <a:stretch/>
        </p:blipFill>
        <p:spPr>
          <a:xfrm>
            <a:off x="2665440" y="1327320"/>
            <a:ext cx="8269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eore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ástupný symbol pro obsah 2" descr=""/>
          <p:cNvPicPr/>
          <p:nvPr/>
        </p:nvPicPr>
        <p:blipFill>
          <a:blip r:embed="rId2"/>
          <a:stretch/>
        </p:blipFill>
        <p:spPr>
          <a:xfrm>
            <a:off x="2895480" y="9856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INIMÁL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EZPEČNÁ VÝŠ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D PŘEKÁŽK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ástupný symbol pro obsah 2" descr=""/>
          <p:cNvPicPr/>
          <p:nvPr/>
        </p:nvPicPr>
        <p:blipFill>
          <a:blip r:embed="rId2"/>
          <a:stretch/>
        </p:blipFill>
        <p:spPr>
          <a:xfrm>
            <a:off x="2781360" y="985680"/>
            <a:ext cx="9144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chod na šíři kanálu 8,33 K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řízení EU 1079/2012, 16. 11.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16. 11. 2013 nová zařízení, nový kmitočtový příděl 25/8,33 kHz, týká se leteckých a letadlových stanic a letadel poprvé registrovaných v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7 musí  všechny letadlové stanice komunikovat 25/8,33 kH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 31. 12. 2018 až na výjimky komunikace jen v 8,33 kH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pokládá se obměna stávajících zařízení na letištích a v letadl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ěny frekvencí na řadě letiš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tanoviště letových provozních služeb poskytuje neřízeným letům VFR v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ovou informač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hotovostní služ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Služby jsou poskytovány bezplatně v režimu H24 - POUŽÍ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Bez plánu stačí jen monitorovat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Provozní frekv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26,1     PRAHA INFORMATION (sektor Čechy part W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136,175 PRAHA INFORMATION (sektor Čechy part Ea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15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Telefonní kontakt:       </a:t>
            </a:r>
            <a:r>
              <a:rPr b="1" lang="cs-CZ" sz="2800" spc="-1" strike="noStrike">
                <a:solidFill>
                  <a:srgbClr val="002060"/>
                </a:solidFill>
                <a:latin typeface="Calibri"/>
              </a:rPr>
              <a:t>220 374 39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Vysvětlení práce FIS a doporučení pro komunikaci se službou INFORMATION budou od 1.3. 2016 názorně předvedena na videu umístěném na www.doletis.c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ovéPole 2"/>
          <p:cNvSpPr/>
          <p:nvPr/>
        </p:nvSpPr>
        <p:spPr>
          <a:xfrm>
            <a:off x="5415120" y="380880"/>
            <a:ext cx="614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To nejlepší</a:t>
            </a:r>
            <a:r>
              <a:rPr b="0" lang="cs-CZ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co můžete dostat o letectví a lét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informace k projektu přechodu na šíři kanálu 8,33 K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opis Flying Revue 3/2016 uveřejní rozhovor s vedoucím projektu ing. Valentou z MD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eb www.flying-revue.cz bude přinášet pravidelné aktualizace postupu projektu a související dopor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mpaň Doletíš?!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struktážní videa pr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pravu a realizaci VFR le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www.doleti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formační video vysvětlující problematik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munikace se službou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ipy pro piloty VFR let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zdálenější letiště včetně letu z VMC do IMC podmí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ravuje se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struktážní video pro plachtaře – přistání do terén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video s problematikou letecké nekázně a také video řešící problematiku stresu v krizových situací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é číslo Flying Revue i web www.flying-revue.cz obsahují články a informace ke kampani Doletíš?! i bezpečnosti v oblasti všeobecného letect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idel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těž pro pilot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skvělé ceny – Jeppesen, at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vý zdroj spolehlivých informací i možností pro zlepšování znalostí na www.flying-revue.cz – sekce „pro piloty“ – je postupně připravován k plnému spuštění k 1. 4.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žnos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áslechu živé komunik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na vybraných evropských letištích včetně LK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eo v ČR/SR i jednotlivých zemích E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světlení různých meteo informac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situací v letectví – sekce vedená Jacekem Kerum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stup do jednotlivých sek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isview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vysvětlením jejich vy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tivované prostory v ČR/SR i v zemích EU,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kde jsou tyto informace dostupné přes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droje informac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AIP, VFR příručky, národní aerokluby, národní organizace řízení letového provozu atd.) pro jednotlivé země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zdrav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ekce pod dohledem MUDr Melechovsk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eteckého práv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ČR – sekce vedená JUDr Jiřím Horní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mplex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formace a doporu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mezinárodní VFR lety do jednotlivých zemí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kladový slov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sahující 1200 leteckých po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4280" y="1120320"/>
            <a:ext cx="108712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íky za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2160" indent="-534960">
              <a:lnSpc>
                <a:spcPct val="9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Omezený prostor (Restricted are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Vzdušný prostor vymezených rozměrů nad pevninou nebo teritoriálními vodami státu, ve kterém je let letadla omezen v souladu se stanovenými podmínk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vyhrazený prostor (TSA)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je definovaná část vzdušného prostoru za normálních okolností, v pravomoci jedné složky letectví, která je, na základě společné dohody dočasně vyhrazená, pro výhradní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nebude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ovolen průlet jiného provoz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Dočasně rezervovaný prostor (TRA) 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je definovaná část vzdušného prostoru za normálních okolností, v pravomoci jedné složky letectví, která je na základě společné dohody dočasně rezervovaná, pro specifické použití jinou složkou letectví a přes kterou </a:t>
            </a:r>
            <a:r>
              <a:rPr b="1" i="1" lang="cs-CZ" sz="2000" spc="-1" strike="noStrike">
                <a:solidFill>
                  <a:srgbClr val="002060"/>
                </a:solidFill>
                <a:latin typeface="Calibri"/>
              </a:rPr>
              <a:t>může na základě ATC povolení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 proletět jiný provo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Změny od 15. 10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ázvy prostorů se budou uvádět bez mezer (LKD, LKP, LKTR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LKR 1-5 se mění na LKTSA1-5, LKTSA2 se rozděluje na LKTSA2A/B/C, horní hranice se mění z FL410 na FL4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Prostor LKR 6 se mění na LKTRA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Některé prostory zanikly, některé vznikly, u některých se změnily hranice </a:t>
            </a:r>
            <a:r>
              <a:rPr b="0" lang="cs-CZ" sz="24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v</a:t>
            </a: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še  lze najít na nové mapě či aplikaci ŘLP </a:t>
            </a:r>
            <a:r>
              <a:rPr b="1" lang="cs-CZ" sz="2400" spc="-1" strike="noStrike">
                <a:solidFill>
                  <a:srgbClr val="002060"/>
                </a:solidFill>
                <a:latin typeface="Calibri"/>
              </a:rPr>
              <a:t>AIS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AISVIEW – webová aplikace umožňující získání následujících informa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ánované aktivované prostory – AUP (14.00 předchoz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tečně aktivované prostory – UUP (09.00 aktuální 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rafické zobrazení aktivovaných prostorů (AUP) v ČR v závislosti na plánovaných časech le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ary a meteo informace pro letiště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lánovaní letů IBS – Integrated Brief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ezplatný systém poskytovaný ŘLP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utná registrace (ibs@ans.c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PL zpracovává přímo ARO Praha (oproti komerčním briefingům je prováděna kontrola operátorem – podchycení chyb, poskytnutí dodatečných informací vztahujících se k letu, individuální příst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ní meteorologické informace, předletová příprava, ATIS, AUP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růběhu roku nová vylepšení – návrhy tratě, navržení tratě pomocí m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ě verze pro mobilní telefony a tabl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9400" y="1231560"/>
            <a:ext cx="1087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isview lze najít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aisview.rlp.cz/ - originální zdr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ww.flying-revue.cz  - odkazy na jednotlivé sekce Aisview s vysvětlivkami pro jejich použí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4280" y="1206360"/>
            <a:ext cx="1087128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Calibri"/>
              </a:rPr>
              <a:t>Od 04.02.2016 vstoupila v platnost změna AIP ENR 1.2 – „Pravidla pro lety za viditelnosti a souvisejících dokumentů VFR příručka a předpis L- frazeologie“. Kromě formálních změn a úprav se mění následují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</a:rPr>
              <a:t>Dosavadní „zrušení letového plánu VFR za letu“ se nově označuje “ukončení letového plánu VFR za letu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Použitá frazeologie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Letadlo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UKONČUJI LETOVÝ PLÁN / CLOSING MY FLIGH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tanoviště ATS: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LETOVÝ PLÁN UKONČEN V … / FLIGHT PLAN CLOSED AT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Poznámka: Ukončení letového plánu VFR za letu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není povoleno</a:t>
            </a:r>
            <a:r>
              <a:rPr b="0" lang="cs-CZ" sz="2000" spc="-1" strike="noStrike">
                <a:solidFill>
                  <a:srgbClr val="002060"/>
                </a:solidFill>
                <a:latin typeface="Calibri"/>
              </a:rPr>
              <a:t>, jestliže let odlétá přes státní hranici z FIR Pra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ázek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Obdélník 4"/>
          <p:cNvSpPr/>
          <p:nvPr/>
        </p:nvSpPr>
        <p:spPr>
          <a:xfrm>
            <a:off x="5548320" y="32446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2600" y="1120320"/>
            <a:ext cx="11712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LKD9 BRDA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ý nebezpečný pros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innost 31 MAR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GND – FL9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24/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oručeno vyh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2"/>
          <p:cNvSpPr/>
          <p:nvPr/>
        </p:nvSpPr>
        <p:spPr>
          <a:xfrm>
            <a:off x="5791320" y="482760"/>
            <a:ext cx="576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30000">
                <a:solidFill>
                  <a:srgbClr val="ffffff"/>
                </a:solidFill>
                <a:latin typeface="Calibri"/>
              </a:rPr>
              <a:t>Nové rubriky zaměřené na aktivní pil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9:51:52Z</dcterms:created>
  <dc:creator>Jožo</dc:creator>
  <dc:description/>
  <dc:language>en-US</dc:language>
  <cp:lastModifiedBy>Jirka</cp:lastModifiedBy>
  <dcterms:modified xsi:type="dcterms:W3CDTF">2016-02-28T09:54:17Z</dcterms:modified>
  <cp:revision>53</cp:revision>
  <dc:subject/>
  <dc:title>Prezentace aplikace PowerPoint</dc:title>
</cp:coreProperties>
</file>