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2FC5-4289-4D02-AF36-7354D52A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6431-7AEA-40C8-A220-49C7AC95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5B6B-67E3-46C2-80C6-07FF80B6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AA66-6323-476B-A8CE-B23CF062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C278-4EFD-4499-AEB8-0DF414DE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93D7-F1E2-473A-8B30-4E1D60F4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82F9-5D62-4997-976A-80039C37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414B-2D83-467B-BEA5-40788A1F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974E-0CBC-4695-8CAD-CE2D6A88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83DA-B0B6-403E-BF6D-61460B77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D1C-3A1C-486A-9C32-82453A26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6774-8E15-47A2-9449-17271CE5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77C2-07C1-46FE-947B-AE67248669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14" descr=""/>
          <p:cNvPicPr/>
          <p:nvPr/>
        </p:nvPicPr>
        <p:blipFill>
          <a:blip r:embed="rId2"/>
          <a:stretch/>
        </p:blipFill>
        <p:spPr>
          <a:xfrm>
            <a:off x="0" y="-2232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43400" y="2009880"/>
            <a:ext cx="703584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baseline="30000">
                <a:solidFill>
                  <a:srgbClr val="203864"/>
                </a:solidFill>
                <a:latin typeface="Calibri Light"/>
              </a:rPr>
              <a:t>Jarní školení 2016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343400" y="2590920"/>
            <a:ext cx="70358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baseline="30000">
                <a:solidFill>
                  <a:srgbClr val="203864"/>
                </a:solidFill>
                <a:latin typeface="Calibri"/>
              </a:rPr>
              <a:t>Letový prostor ČR –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e79"/>
                </a:solidFill>
                <a:latin typeface="Calibri"/>
              </a:rPr>
              <a:t>Osvěžení znalostí, novinky a nové zdroje informac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e79"/>
                </a:solidFill>
                <a:latin typeface="Calibri"/>
              </a:rPr>
              <a:t>Jiří Pruš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1"/>
          <p:cNvSpPr/>
          <p:nvPr/>
        </p:nvSpPr>
        <p:spPr>
          <a:xfrm>
            <a:off x="584280" y="507960"/>
            <a:ext cx="50544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alibri"/>
              </a:rPr>
              <a:t>Exkluzivní nezávislý časop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alibri"/>
              </a:rPr>
              <a:t>o letectví od profesionál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Lety, na které musí být v ČR předložen FP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šechny lety IFR a kombinované VFR/IFR a IFR/VF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ety VF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artující nebo přistávající z vojenských letišť (LKKB, LKCV, LKNA, LKP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ety do zahraničí (výjimkou bez FPL jsou pouze pro lety do Německa; do Polska pouze v hladině VFR s dráhou letu mimo CTR/TMA letišť a přistáním na neřízeném letišti; na Slovensko a to pouze v hladině VF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oční lety VF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ety VFR nad FL09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Čas předložení FP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FR FPL by měl být v ČR předložen alespoň 3 hod. před EOBT (Estimated Off Block Time) a VFR FPL alespoň 1 hod. před EOBT, jinak nemusí být FPL včas zpracová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214280" y="1468080"/>
            <a:ext cx="108712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dávání letového plá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střednictvím ohlašoven A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RO Praha (budoucí centrální ARO Praha, provoz H2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RO Ostrava (ukončení činnosti koncem května 201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střednictvím self-briefingů 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arlových Vare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Brn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stravě (od konce května 201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střednictvím IB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oporučení A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vádět vždy ve svých FPL telefonní číslo, v případě chyb ve FPL to usnadní a zrychlí nápra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idla platná pro podávání VFR FPL mimo Č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ze získat v AIP nebo VFR příručkách příslušných stát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ouhrn těchto pravidel pro země EU je dolaďován v sekci „pro piloty“ webu www.flying-revue.c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03560" y="1120320"/>
            <a:ext cx="98820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E:\Seminář ŘLP pro GA 2016\Prezentace\LIS\LKD9.PNG"/>
          <p:cNvPicPr/>
          <p:nvPr/>
        </p:nvPicPr>
        <p:blipFill>
          <a:blip r:embed="rId2"/>
          <a:stretch/>
        </p:blipFill>
        <p:spPr>
          <a:xfrm>
            <a:off x="1185840" y="1049400"/>
            <a:ext cx="6554880" cy="5127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E:\Seminář ŘLP pro GA 2016\Prezentace\LIS\LKD9_zoom.PNG"/>
          <p:cNvPicPr/>
          <p:nvPr/>
        </p:nvPicPr>
        <p:blipFill>
          <a:blip r:embed="rId3"/>
          <a:stretch/>
        </p:blipFill>
        <p:spPr>
          <a:xfrm>
            <a:off x="5705640" y="1192320"/>
            <a:ext cx="527184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Geore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MĚ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Zástupný symbol pro obsah 2" descr=""/>
          <p:cNvPicPr/>
          <p:nvPr/>
        </p:nvPicPr>
        <p:blipFill>
          <a:blip r:embed="rId2"/>
          <a:stretch/>
        </p:blipFill>
        <p:spPr>
          <a:xfrm>
            <a:off x="2614680" y="1206360"/>
            <a:ext cx="915660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Geore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ŘE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Zástupný symbol pro obsah 2" descr=""/>
          <p:cNvPicPr/>
          <p:nvPr/>
        </p:nvPicPr>
        <p:blipFill>
          <a:blip r:embed="rId2"/>
          <a:stretch/>
        </p:blipFill>
        <p:spPr>
          <a:xfrm>
            <a:off x="2679840" y="1206360"/>
            <a:ext cx="91440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Geore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MUNIK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Zástupný symbol pro obsah 2" descr=""/>
          <p:cNvPicPr/>
          <p:nvPr/>
        </p:nvPicPr>
        <p:blipFill>
          <a:blip r:embed="rId2"/>
          <a:stretch/>
        </p:blipFill>
        <p:spPr>
          <a:xfrm>
            <a:off x="2665440" y="1327320"/>
            <a:ext cx="82692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Geore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LETIŠ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Zástupný symbol pro obsah 2" descr=""/>
          <p:cNvPicPr/>
          <p:nvPr/>
        </p:nvPicPr>
        <p:blipFill>
          <a:blip r:embed="rId2"/>
          <a:stretch/>
        </p:blipFill>
        <p:spPr>
          <a:xfrm>
            <a:off x="2895480" y="985680"/>
            <a:ext cx="91440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MINIMÁLN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BEZPEČNÁ VÝŠ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AD PŘEKÁŽK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Zástupný symbol pro obsah 2" descr=""/>
          <p:cNvPicPr/>
          <p:nvPr/>
        </p:nvPicPr>
        <p:blipFill>
          <a:blip r:embed="rId2"/>
          <a:stretch/>
        </p:blipFill>
        <p:spPr>
          <a:xfrm>
            <a:off x="2781360" y="985680"/>
            <a:ext cx="914400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chod na šíři kanálu 8,33 KH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ařízení EU 1079/2012, 16. 11.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 16. 11. 2013 nová zařízení, nový kmitočtový příděl 25/8,33 kHz, týká se leteckých a letadlových stanic a letadel poprvé registrovaných v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 31. 12. 2017 musí  všechny letadlové stanice komunikovat 25/8,33 kH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 31. 12. 2018 až na výjimky komunikace jen v 8,33 kH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dpokládá se obměna stávajících zařízení na letištích a v letadle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měny frekvencí na řadě letiš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Stanoviště letových provozních služeb poskytuje neřízeným letům VFR v Č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615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Letovou informační služ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15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Pohotovostní služ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Služby jsou poskytovány bezplatně v režimu H24 - POUŽÍV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Bez plánu stačí jen monitorovat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Provozní frekv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615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126,1     PRAHA INFORMATION (sektor Čechy part We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15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136,175 PRAHA INFORMATION (sektor Čechy part Ea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15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Telefonní kontakt:       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220 374 39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Vysvětlení práce FIS a doporučení pro komunikaci se službou INFORMATION budou od 1.3. 2016 názorně předvedena na videu umístěném na www.doletis.c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ovéPole 2"/>
          <p:cNvSpPr/>
          <p:nvPr/>
        </p:nvSpPr>
        <p:spPr>
          <a:xfrm>
            <a:off x="5415120" y="380880"/>
            <a:ext cx="614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To nejlepší</a:t>
            </a:r>
            <a:r>
              <a:rPr b="0" lang="cs-CZ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co můžete dostat o letectví a lét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alší informace k projektu přechodu na šíři kanálu 8,33 K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asopis Flying Revue 3/2016 uveřejní rozhovor s vedoucím projektu ing. Valentou z MD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Web www.flying-revue.cz bude přinášet pravidelné aktualizace postupu projektu a související doporuč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mpaň Doletíš?!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struktážní videa pro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řípravu a realizaci VFR letů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na www.doletis.c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formační video vysvětlující problematiku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munikace se službou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Tipy pro piloty VFR letů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a vzdálenější letiště včetně letu z VMC do IMC podmín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ravuje se: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instruktážní video pro plachtaře – přistání do terénu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video s problematikou letecké nekázně a také video řešící problematiku stresu v krizových situací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aždé číslo Flying Revue i web www.flying-revue.cz obsahují články a informace ke kampani Doletíš?! i bezpečnosti v oblasti všeobecného letectv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videlná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outěž pro piloty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 skvělé ceny – Jeppesen, at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ový zdroj spolehlivých informací i možností pro zlepšování znalostí na www.flying-revue.cz – sekce „pro piloty“ – je postupně připravován k plnému spuštění k 1. 4.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ožnost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áslechu živé komunikac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na vybraných evropských letištích včetně LKP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eteo v ČR/SR i jednotlivých zemích E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ysvětlení různých meteo informací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a situací v letectví – sekce vedená Jacekem Kerum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ístup do jednotlivých sekc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isview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s vysvětlením jejich využi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ktivované prostory v ČR/SR i v zemích EU,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kde jsou tyto informace dostupné přes inter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Zdroje informac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AIP, VFR příručky, národní aerokluby, národní organizace řízení letového provozu atd.) pro jednotlivé země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leteckého zdrav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sekce pod dohledem MUDr Melechovské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leteckého práva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ČR – sekce vedená JUDr Jiřím Horník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omplexn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informace a doporuče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mezinárodní VFR lety do jednotlivých zemí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ýkladový slovník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bsahující 1200 leteckých pojm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íky za pozor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Omezený prostor (Restricted area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Vzdušný prostor vymezených rozměrů nad pevninou nebo teritoriálními vodami státu, ve kterém je let letadla omezen v souladu se stanovenými podmínka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Dočasně vyhrazený prostor (TSA)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 je definovaná část vzdušného prostoru za normálních okolností, v pravomoci jedné složky letectví, která je, na základě společné dohody dočasně vyhrazená, pro výhradní použití jinou složkou letectví a přes kterou </a:t>
            </a:r>
            <a:r>
              <a:rPr b="1" i="1" lang="cs-CZ" sz="2000" spc="-1" strike="noStrike">
                <a:solidFill>
                  <a:srgbClr val="002060"/>
                </a:solidFill>
                <a:latin typeface="Calibri"/>
              </a:rPr>
              <a:t>nebude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 povolen průlet jiného provoz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Dočasně rezervovaný prostor (TRA) 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je definovaná část vzdušného prostoru za normálních okolností, v pravomoci jedné složky letectví, která je na základě společné dohody dočasně rezervovaná, pro specifické použití jinou složkou letectví a přes kterou </a:t>
            </a:r>
            <a:r>
              <a:rPr b="1" i="1" lang="cs-CZ" sz="2000" spc="-1" strike="noStrike">
                <a:solidFill>
                  <a:srgbClr val="002060"/>
                </a:solidFill>
                <a:latin typeface="Calibri"/>
              </a:rPr>
              <a:t>může na základě ATC povolení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 proletět jiný provo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Změny od 15. 10.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Calibri"/>
              </a:rPr>
              <a:t>Názvy prostorů se budou uvádět bez mezer (LKD, LKP, LKTRA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Calibri"/>
              </a:rPr>
              <a:t>LKR 1-5 se mění na LKTSA1-5, LKTSA2 se rozděluje na LKTSA2A/B/C, horní hranice se mění z FL410 na FL4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Calibri"/>
              </a:rPr>
              <a:t>Prostor LKR 6 se mění na LKTRA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Calibri"/>
              </a:rPr>
              <a:t>Některé prostory zanikly, některé vznikly, u některých se změnily hranice </a:t>
            </a:r>
            <a:r>
              <a:rPr b="0" lang="cs-CZ" sz="2400" spc="-1" strike="noStrike">
                <a:solidFill>
                  <a:srgbClr val="00206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v</a:t>
            </a:r>
            <a:r>
              <a:rPr b="0" lang="cs-CZ" sz="2400" spc="-1" strike="noStrike">
                <a:solidFill>
                  <a:srgbClr val="002060"/>
                </a:solidFill>
                <a:latin typeface="Calibri"/>
              </a:rPr>
              <a:t>še  lze najít na nové mapě či aplikaci ŘLP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AIS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9400" y="1231560"/>
            <a:ext cx="1087092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AISVIEW – webová aplikace umožňující získání následujících informac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ánované aktivované prostory – AUP (14.00 předchozí 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kutečně aktivované prostory – UUP (09.00 aktuální 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Grafické zobrazení aktivovaných prostorů (AUP) v ČR v závislosti na plánovaných časech le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ary a meteo informace pro letiště v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09400" y="1231560"/>
            <a:ext cx="1087092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lánovaní letů IBS – Integrated Briefing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ezplatný systém poskytovaný ŘLP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nutná registrace (ibs@ans.cz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PL zpracovává přímo ARO Praha (oproti komerčním briefingům je prováděna kontrola operátorem – podchycení chyb, poskytnutí dodatečných informací vztahujících se k letu, individuální přístu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mpletní meteorologické informace, předletová příprava, ATIS, AUP at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 průběhu roku nová vylepšení – návrhy tratě, navržení tratě pomocí ma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ě verze pro mobilní telefony a tabl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9400" y="1231560"/>
            <a:ext cx="1087092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Aisview lze najít n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ttp://aisview.rlp.cz/ - originální zdro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www.flying-revue.cz  - odkazy na jednotlivé sekce Aisview s vysvětlivkami pro jejich použí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Calibri"/>
              </a:rPr>
              <a:t>Od 04.02.2016 vstoupila v platnost změna AIP ENR 1.2 – „Pravidla pro lety za viditelnosti a souvisejících dokumentů VFR příručka a předpis L- frazeologie“. Kromě formálních změn a úprav se mění následujíc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Calibri"/>
              </a:rPr>
              <a:t>Dosavadní „zrušení letového plánu VFR za letu“ se nově označuje “ukončení letového plánu VFR za letu“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Použitá frazeologie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Letadlo: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 UKONČUJI LETOVÝ PLÁN / CLOSING MY FLIGH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Stanoviště ATS: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 LETOVÝ PLÁN UKONČEN V … / FLIGHT PLAN CLOSED AT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Poznámka: Ukončení letového plánu VFR za letu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není povoleno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, jestliže let odlétá přes státní hranici z FIR Prah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72600" y="1120320"/>
            <a:ext cx="11712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LKD9 BRDA -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vý nebezpečný pros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innost 31 MAR 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GND – FL9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24/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poručeno vyhnu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19:51:52Z</dcterms:created>
  <dc:creator>Jožo</dc:creator>
  <dc:description/>
  <dc:language>en-US</dc:language>
  <cp:lastModifiedBy>Jirka</cp:lastModifiedBy>
  <dcterms:modified xsi:type="dcterms:W3CDTF">2016-02-28T09:54:17Z</dcterms:modified>
  <cp:revision>53</cp:revision>
  <dc:subject/>
  <dc:title>Prezentace aplikace PowerPoint</dc:title>
</cp:coreProperties>
</file>