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7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0839C-977F-4FF7-907F-145EB9C89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7587B-36FF-4333-82AB-993B1FA75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5AC2B-BFC7-4014-9233-1F4B0C202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ACB0C-F796-45B5-A187-7B3D2E880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4DAF2-88C2-4E32-9EA6-B99C383E8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5F6F8-6055-467A-92E6-977CC5D7C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316DF-278E-4B0F-80DE-60D68409A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62812-CB96-4F9B-88D5-785AAFDAC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5E514-1CD7-4E39-A439-B61945D7B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61B61-9C5B-417F-A88C-185B74706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995C2-F4A9-4B72-A34D-817BC1B4D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7DF0F-C4C6-47F7-8FA7-3103F7F83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53B7D-E1F3-4B8E-900A-B0A3E32F4C8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Obrázek 14" descr=""/>
          <p:cNvPicPr/>
          <p:nvPr/>
        </p:nvPicPr>
        <p:blipFill>
          <a:blip r:embed="rId2"/>
          <a:stretch/>
        </p:blipFill>
        <p:spPr>
          <a:xfrm>
            <a:off x="0" y="-22320"/>
            <a:ext cx="12192120" cy="68803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343400" y="2009880"/>
            <a:ext cx="7035840" cy="581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baseline="30000">
                <a:solidFill>
                  <a:srgbClr val="203864"/>
                </a:solidFill>
                <a:latin typeface="Calibri Light"/>
              </a:rPr>
              <a:t>Jarní školení 2016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343400" y="2590920"/>
            <a:ext cx="703584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  <a:tab algn="l" pos="71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  <a:tab algn="l" pos="71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baseline="30000">
                <a:solidFill>
                  <a:srgbClr val="203864"/>
                </a:solidFill>
                <a:latin typeface="Calibri"/>
              </a:rPr>
              <a:t>Letový prostor ČR – 201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  <a:tab algn="l" pos="71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1f4e79"/>
                </a:solidFill>
                <a:latin typeface="Calibri"/>
              </a:rPr>
              <a:t>Osvěžení znalostí, novinky a nové zdroje informací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  <a:tab algn="l" pos="71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f4e79"/>
                </a:solidFill>
                <a:latin typeface="Calibri"/>
              </a:rPr>
              <a:t>Jiří Pruš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ovéPole 1"/>
          <p:cNvSpPr/>
          <p:nvPr/>
        </p:nvSpPr>
        <p:spPr>
          <a:xfrm>
            <a:off x="584280" y="507960"/>
            <a:ext cx="505440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Calibri"/>
              </a:rPr>
              <a:t>Exkluzivní nezávislý časop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Calibri"/>
              </a:rPr>
              <a:t>o letectví od profesionálů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Obrázek 7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Obdélník 4"/>
          <p:cNvSpPr/>
          <p:nvPr/>
        </p:nvSpPr>
        <p:spPr>
          <a:xfrm>
            <a:off x="5548320" y="3244680"/>
            <a:ext cx="109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yriad Pro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1214280" y="1120320"/>
            <a:ext cx="10871280" cy="511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Lety, na které musí být v ČR předložen FP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Všechny lety IFR a kombinované VFR/IFR a IFR/VF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Lety VF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Startující nebo přistávající z vojenských letišť (LKKB, LKCV, LKNA, LKPD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Lety do zahraničí (výjimkou bez FPL jsou pouze pro lety do Německa; do Polska pouze v hladině VFR s dráhou letu mimo CTR/TMA letišť a přistáním na neřízeném letišti; na Slovensko a to pouze v hladině VFR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Noční lety VF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Lety VFR nad FL09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Čas předložení FP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IFR FPL by měl být v ČR předložen alespoň 3 hod. před EOBT (Estimated Off Block Time) a VFR FPL alespoň 1 hod. před EOBT, jinak nemusí být FPL včas zpracová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TextovéPole 2"/>
          <p:cNvSpPr/>
          <p:nvPr/>
        </p:nvSpPr>
        <p:spPr>
          <a:xfrm>
            <a:off x="5791320" y="482760"/>
            <a:ext cx="5765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baseline="30000">
                <a:solidFill>
                  <a:srgbClr val="ffffff"/>
                </a:solidFill>
                <a:latin typeface="Calibri"/>
              </a:rPr>
              <a:t>Nové rubriky zaměřené na aktivní piloty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Obrázek 7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Obdélník 4"/>
          <p:cNvSpPr/>
          <p:nvPr/>
        </p:nvSpPr>
        <p:spPr>
          <a:xfrm>
            <a:off x="5548320" y="3244680"/>
            <a:ext cx="109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yriad Pro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1214280" y="1468080"/>
            <a:ext cx="10871280" cy="476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71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Podávání letového plán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1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rostřednictvím ohlašoven AR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1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ARO Praha (budoucí centrální ARO Praha, provoz H24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1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ARO Ostrava (ukončení činnosti koncem května 2016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1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rostřednictvím self-briefingů v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1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Karlových Varec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1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Brně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1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Ostravě (od konce května 2016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1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rostřednictvím IB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1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71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xtovéPole 2"/>
          <p:cNvSpPr/>
          <p:nvPr/>
        </p:nvSpPr>
        <p:spPr>
          <a:xfrm>
            <a:off x="5791320" y="482760"/>
            <a:ext cx="5765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baseline="30000">
                <a:solidFill>
                  <a:srgbClr val="ffffff"/>
                </a:solidFill>
                <a:latin typeface="Calibri"/>
              </a:rPr>
              <a:t>Nové rubriky zaměřené na aktivní piloty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Obrázek 7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Obdélník 4"/>
          <p:cNvSpPr/>
          <p:nvPr/>
        </p:nvSpPr>
        <p:spPr>
          <a:xfrm>
            <a:off x="5548320" y="3244680"/>
            <a:ext cx="109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yriad Pro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214280" y="1120320"/>
            <a:ext cx="10871280" cy="511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Doporučení AR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uvádět vždy ve svých FPL telefonní číslo, v případě chyb ve FPL to usnadní a zrychlí náprav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ravidla platná pro podávání VFR FPL mimo Č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Lze získat v AIP nebo VFR příručkách příslušných stát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Souhrn těchto pravidel pro země EU je dolaďován v sekci „pro piloty“ webu www.flying-revue.cz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ovéPole 2"/>
          <p:cNvSpPr/>
          <p:nvPr/>
        </p:nvSpPr>
        <p:spPr>
          <a:xfrm>
            <a:off x="5791320" y="482760"/>
            <a:ext cx="5765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baseline="30000">
                <a:solidFill>
                  <a:srgbClr val="ffffff"/>
                </a:solidFill>
                <a:latin typeface="Calibri"/>
              </a:rPr>
              <a:t>Nové rubriky zaměřené na aktivní piloty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Obrázek 7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Obdélník 4"/>
          <p:cNvSpPr/>
          <p:nvPr/>
        </p:nvSpPr>
        <p:spPr>
          <a:xfrm>
            <a:off x="5548320" y="3244680"/>
            <a:ext cx="109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yriad Pro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2203560" y="1120320"/>
            <a:ext cx="9882000" cy="511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4960" indent="-534960">
              <a:lnSpc>
                <a:spcPct val="90000"/>
              </a:lnSpc>
              <a:spcBef>
                <a:spcPts val="1001"/>
              </a:spcBef>
              <a:buClr>
                <a:srgbClr val="ffc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4960" indent="-5349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4960" indent="-5349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34960" indent="-53496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TextovéPole 2"/>
          <p:cNvSpPr/>
          <p:nvPr/>
        </p:nvSpPr>
        <p:spPr>
          <a:xfrm>
            <a:off x="5791320" y="482760"/>
            <a:ext cx="5765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baseline="30000">
                <a:solidFill>
                  <a:srgbClr val="ffffff"/>
                </a:solidFill>
                <a:latin typeface="Calibri"/>
              </a:rPr>
              <a:t>Nové rubriky zaměřené na aktivní piloty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4" descr="E:\Seminář ŘLP pro GA 2016\Prezentace\LIS\LKD9.PNG"/>
          <p:cNvPicPr/>
          <p:nvPr/>
        </p:nvPicPr>
        <p:blipFill>
          <a:blip r:embed="rId2"/>
          <a:stretch/>
        </p:blipFill>
        <p:spPr>
          <a:xfrm>
            <a:off x="1185840" y="1049400"/>
            <a:ext cx="6554880" cy="51274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5" descr="E:\Seminář ŘLP pro GA 2016\Prezentace\LIS\LKD9_zoom.PNG"/>
          <p:cNvPicPr/>
          <p:nvPr/>
        </p:nvPicPr>
        <p:blipFill>
          <a:blip r:embed="rId3"/>
          <a:stretch/>
        </p:blipFill>
        <p:spPr>
          <a:xfrm>
            <a:off x="5705640" y="1192320"/>
            <a:ext cx="5271840" cy="49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Obrázek 7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Obdélník 4"/>
          <p:cNvSpPr/>
          <p:nvPr/>
        </p:nvSpPr>
        <p:spPr>
          <a:xfrm>
            <a:off x="5548320" y="3244680"/>
            <a:ext cx="109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yriad Pro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584280" y="1206360"/>
            <a:ext cx="10871280" cy="476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71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Georeferen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71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71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MĚS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71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extovéPole 2"/>
          <p:cNvSpPr/>
          <p:nvPr/>
        </p:nvSpPr>
        <p:spPr>
          <a:xfrm>
            <a:off x="5791320" y="482760"/>
            <a:ext cx="5765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baseline="30000">
                <a:solidFill>
                  <a:srgbClr val="ffffff"/>
                </a:solidFill>
                <a:latin typeface="Calibri"/>
              </a:rPr>
              <a:t>Nové rubriky zaměřené na aktivní piloty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Zástupný symbol pro obsah 2" descr=""/>
          <p:cNvPicPr/>
          <p:nvPr/>
        </p:nvPicPr>
        <p:blipFill>
          <a:blip r:embed="rId2"/>
          <a:stretch/>
        </p:blipFill>
        <p:spPr>
          <a:xfrm>
            <a:off x="2614680" y="1206360"/>
            <a:ext cx="9156600" cy="52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Obrázek 7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Obdélník 4"/>
          <p:cNvSpPr/>
          <p:nvPr/>
        </p:nvSpPr>
        <p:spPr>
          <a:xfrm>
            <a:off x="5548320" y="3244680"/>
            <a:ext cx="109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yriad Pro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584280" y="1206360"/>
            <a:ext cx="10871280" cy="476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71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Georeferen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71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71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ŘEK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71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ovéPole 2"/>
          <p:cNvSpPr/>
          <p:nvPr/>
        </p:nvSpPr>
        <p:spPr>
          <a:xfrm>
            <a:off x="5791320" y="482760"/>
            <a:ext cx="5765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baseline="30000">
                <a:solidFill>
                  <a:srgbClr val="ffffff"/>
                </a:solidFill>
                <a:latin typeface="Calibri"/>
              </a:rPr>
              <a:t>Nové rubriky zaměřené na aktivní piloty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Zástupný symbol pro obsah 2" descr=""/>
          <p:cNvPicPr/>
          <p:nvPr/>
        </p:nvPicPr>
        <p:blipFill>
          <a:blip r:embed="rId2"/>
          <a:stretch/>
        </p:blipFill>
        <p:spPr>
          <a:xfrm>
            <a:off x="2679840" y="1206360"/>
            <a:ext cx="9144000" cy="525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Obrázek 7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Obdélník 4"/>
          <p:cNvSpPr/>
          <p:nvPr/>
        </p:nvSpPr>
        <p:spPr>
          <a:xfrm>
            <a:off x="5548320" y="3244680"/>
            <a:ext cx="109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yriad Pro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84280" y="1206360"/>
            <a:ext cx="10871280" cy="476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71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Georeferen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71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71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KOMUNIKA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71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TextovéPole 2"/>
          <p:cNvSpPr/>
          <p:nvPr/>
        </p:nvSpPr>
        <p:spPr>
          <a:xfrm>
            <a:off x="5791320" y="482760"/>
            <a:ext cx="5765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baseline="30000">
                <a:solidFill>
                  <a:srgbClr val="ffffff"/>
                </a:solidFill>
                <a:latin typeface="Calibri"/>
              </a:rPr>
              <a:t>Nové rubriky zaměřené na aktivní piloty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Zástupný symbol pro obsah 2" descr=""/>
          <p:cNvPicPr/>
          <p:nvPr/>
        </p:nvPicPr>
        <p:blipFill>
          <a:blip r:embed="rId2"/>
          <a:stretch/>
        </p:blipFill>
        <p:spPr>
          <a:xfrm>
            <a:off x="2665440" y="1327320"/>
            <a:ext cx="8269200" cy="48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Obrázek 7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Obdélník 4"/>
          <p:cNvSpPr/>
          <p:nvPr/>
        </p:nvSpPr>
        <p:spPr>
          <a:xfrm>
            <a:off x="5548320" y="3244680"/>
            <a:ext cx="109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yriad Pro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84280" y="1206360"/>
            <a:ext cx="10871280" cy="476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71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Georeferen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71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71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LETIŠTĚ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71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TextovéPole 2"/>
          <p:cNvSpPr/>
          <p:nvPr/>
        </p:nvSpPr>
        <p:spPr>
          <a:xfrm>
            <a:off x="5791320" y="482760"/>
            <a:ext cx="5765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baseline="30000">
                <a:solidFill>
                  <a:srgbClr val="ffffff"/>
                </a:solidFill>
                <a:latin typeface="Calibri"/>
              </a:rPr>
              <a:t>Nové rubriky zaměřené na aktivní piloty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Zástupný symbol pro obsah 2" descr=""/>
          <p:cNvPicPr/>
          <p:nvPr/>
        </p:nvPicPr>
        <p:blipFill>
          <a:blip r:embed="rId2"/>
          <a:stretch/>
        </p:blipFill>
        <p:spPr>
          <a:xfrm>
            <a:off x="2895480" y="985680"/>
            <a:ext cx="9144000" cy="525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Obrázek 7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Obdélník 4"/>
          <p:cNvSpPr/>
          <p:nvPr/>
        </p:nvSpPr>
        <p:spPr>
          <a:xfrm>
            <a:off x="5548320" y="3244680"/>
            <a:ext cx="109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yriad Pro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584280" y="1206360"/>
            <a:ext cx="10871280" cy="476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71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71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MINIMÁLNÍ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71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BEZPEČNÁ VÝŠK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71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NAD PŘEKÁŽKAM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TextovéPole 2"/>
          <p:cNvSpPr/>
          <p:nvPr/>
        </p:nvSpPr>
        <p:spPr>
          <a:xfrm>
            <a:off x="5791320" y="482760"/>
            <a:ext cx="5765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baseline="30000">
                <a:solidFill>
                  <a:srgbClr val="ffffff"/>
                </a:solidFill>
                <a:latin typeface="Calibri"/>
              </a:rPr>
              <a:t>Nové rubriky zaměřené na aktivní piloty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Zástupný symbol pro obsah 2" descr=""/>
          <p:cNvPicPr/>
          <p:nvPr/>
        </p:nvPicPr>
        <p:blipFill>
          <a:blip r:embed="rId2"/>
          <a:stretch/>
        </p:blipFill>
        <p:spPr>
          <a:xfrm>
            <a:off x="2781360" y="985680"/>
            <a:ext cx="9144000" cy="515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Obrázek 7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Obdélník 4"/>
          <p:cNvSpPr/>
          <p:nvPr/>
        </p:nvSpPr>
        <p:spPr>
          <a:xfrm>
            <a:off x="5548320" y="3244680"/>
            <a:ext cx="109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yriad Pro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214280" y="1120320"/>
            <a:ext cx="10871280" cy="511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řechod na šíři kanálu 8,33 KHz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c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Nařízení EU 1079/2012, 16. 11. 201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c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Od 16. 11. 2013 nová zařízení, nový kmitočtový příděl 25/8,33 kHz, týká se leteckých a letadlových stanic a letadel poprvé registrovaných v E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c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Po 31. 12. 2017 musí  všechny letadlové stanice komunikovat 25/8,33 kHz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c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Po 31. 12. 2018 až na výjimky komunikace jen v 8,33 kHz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c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Předpokládá se obměna stávajících zařízení na letištích a v letadlec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c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Změny frekvencí na řadě letišť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c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TextovéPole 2"/>
          <p:cNvSpPr/>
          <p:nvPr/>
        </p:nvSpPr>
        <p:spPr>
          <a:xfrm>
            <a:off x="5791320" y="482760"/>
            <a:ext cx="5765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baseline="30000">
                <a:solidFill>
                  <a:srgbClr val="ffffff"/>
                </a:solidFill>
                <a:latin typeface="Calibri"/>
              </a:rPr>
              <a:t>Nové rubriky zaměřené na aktivní piloty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Obrázek 7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Obdélník 4"/>
          <p:cNvSpPr/>
          <p:nvPr/>
        </p:nvSpPr>
        <p:spPr>
          <a:xfrm>
            <a:off x="5548320" y="3244680"/>
            <a:ext cx="109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yriad Pro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584280" y="1206360"/>
            <a:ext cx="10871280" cy="476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23920" indent="-22392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2060"/>
                </a:solidFill>
                <a:latin typeface="Calibri"/>
              </a:rPr>
              <a:t>Stanoviště letových provozních služeb poskytuje neřízeným letům VFR v Č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6159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2060"/>
                </a:solidFill>
                <a:latin typeface="Calibri"/>
              </a:rPr>
              <a:t>  </a:t>
            </a:r>
            <a:r>
              <a:rPr b="1" lang="cs-CZ" sz="2000" spc="-1" strike="noStrike">
                <a:solidFill>
                  <a:srgbClr val="002060"/>
                </a:solidFill>
                <a:latin typeface="Calibri"/>
              </a:rPr>
              <a:t>Letovou informační služb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6159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2060"/>
                </a:solidFill>
                <a:latin typeface="Calibri"/>
              </a:rPr>
              <a:t>  </a:t>
            </a:r>
            <a:r>
              <a:rPr b="1" lang="cs-CZ" sz="2000" spc="-1" strike="noStrike">
                <a:solidFill>
                  <a:srgbClr val="002060"/>
                </a:solidFill>
                <a:latin typeface="Calibri"/>
              </a:rPr>
              <a:t>Pohotovostní služb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3920" indent="-22392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2060"/>
                </a:solidFill>
                <a:latin typeface="Calibri"/>
              </a:rPr>
              <a:t>Služby jsou poskytovány bezplatně v režimu H24 - POUŽÍVA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2060"/>
                </a:solidFill>
                <a:latin typeface="Calibri"/>
              </a:rPr>
              <a:t>Bez plánu stačí jen monitorovat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3920" indent="-22392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cs-CZ" sz="2800" spc="-1" strike="noStrike">
                <a:solidFill>
                  <a:srgbClr val="002060"/>
                </a:solidFill>
                <a:latin typeface="Calibri"/>
              </a:rPr>
              <a:t>Provozní frekvenc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6159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2060"/>
                </a:solidFill>
                <a:latin typeface="Calibri"/>
              </a:rPr>
              <a:t>  </a:t>
            </a:r>
            <a:r>
              <a:rPr b="1" lang="cs-CZ" sz="2000" spc="-1" strike="noStrike">
                <a:solidFill>
                  <a:srgbClr val="002060"/>
                </a:solidFill>
                <a:latin typeface="Calibri"/>
              </a:rPr>
              <a:t>126,1     PRAHA INFORMATION (sektor Čechy part West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6159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2060"/>
                </a:solidFill>
                <a:latin typeface="Calibri"/>
              </a:rPr>
              <a:t>   </a:t>
            </a:r>
            <a:r>
              <a:rPr b="1" lang="cs-CZ" sz="2000" spc="-1" strike="noStrike">
                <a:solidFill>
                  <a:srgbClr val="002060"/>
                </a:solidFill>
                <a:latin typeface="Calibri"/>
              </a:rPr>
              <a:t>136,175 PRAHA INFORMATION (sektor Čechy part East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6159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2060"/>
                </a:solidFill>
                <a:latin typeface="Calibri"/>
              </a:rPr>
              <a:t>Telefonní kontakt:       </a:t>
            </a:r>
            <a:r>
              <a:rPr b="1" lang="cs-CZ" sz="2800" spc="-1" strike="noStrike">
                <a:solidFill>
                  <a:srgbClr val="002060"/>
                </a:solidFill>
                <a:latin typeface="Calibri"/>
              </a:rPr>
              <a:t>220 374 39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2060"/>
                </a:solidFill>
                <a:latin typeface="Calibri"/>
              </a:rPr>
              <a:t>Vysvětlení práce FIS a doporučení pro komunikaci se službou INFORMATION budou od 1.3. 2016 názorně předvedena na videu umístěném na www.doletis.cz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3920" indent="-22392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ovéPole 2"/>
          <p:cNvSpPr/>
          <p:nvPr/>
        </p:nvSpPr>
        <p:spPr>
          <a:xfrm>
            <a:off x="5415120" y="380880"/>
            <a:ext cx="6141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baseline="30000">
                <a:solidFill>
                  <a:srgbClr val="ffffff"/>
                </a:solidFill>
                <a:latin typeface="Calibri"/>
              </a:rPr>
              <a:t>To nejlepší</a:t>
            </a:r>
            <a:r>
              <a:rPr b="0" lang="cs-CZ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cs-CZ" sz="2800" spc="-1" strike="noStrike" baseline="30000">
                <a:solidFill>
                  <a:srgbClr val="ffffff"/>
                </a:solidFill>
                <a:latin typeface="Calibri"/>
              </a:rPr>
              <a:t>co můžete dostat o letectví a létán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Obrázek 7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Obdélník 4"/>
          <p:cNvSpPr/>
          <p:nvPr/>
        </p:nvSpPr>
        <p:spPr>
          <a:xfrm>
            <a:off x="5548320" y="3244680"/>
            <a:ext cx="109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yriad Pro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1214280" y="1120320"/>
            <a:ext cx="10871280" cy="511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Další informace k projektu přechodu na šíři kanálu 8,33 KHz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Časopis Flying Revue 3/2016 uveřejní rozhovor s vedoucím projektu ing. Valentou z MD Č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Web www.flying-revue.cz bude přinášet pravidelné aktualizace postupu projektu a související doporučen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c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ovéPole 2"/>
          <p:cNvSpPr/>
          <p:nvPr/>
        </p:nvSpPr>
        <p:spPr>
          <a:xfrm>
            <a:off x="5791320" y="482760"/>
            <a:ext cx="5765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baseline="30000">
                <a:solidFill>
                  <a:srgbClr val="ffffff"/>
                </a:solidFill>
                <a:latin typeface="Calibri"/>
              </a:rPr>
              <a:t>Nové rubriky zaměřené na aktivní piloty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Obrázek 7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Obdélník 4"/>
          <p:cNvSpPr/>
          <p:nvPr/>
        </p:nvSpPr>
        <p:spPr>
          <a:xfrm>
            <a:off x="5548320" y="3244680"/>
            <a:ext cx="109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yriad Pro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214280" y="1120320"/>
            <a:ext cx="10871280" cy="511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4960" indent="-534960">
              <a:lnSpc>
                <a:spcPct val="90000"/>
              </a:lnSpc>
              <a:spcBef>
                <a:spcPts val="1001"/>
              </a:spcBef>
              <a:buClr>
                <a:srgbClr val="ffc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Kampaň Doletíš?! 201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92160" indent="-534960">
              <a:lnSpc>
                <a:spcPct val="90000"/>
              </a:lnSpc>
              <a:spcBef>
                <a:spcPts val="499"/>
              </a:spcBef>
              <a:buClr>
                <a:srgbClr val="ffc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Instruktážní videa pro </a:t>
            </a: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přípravu a realizaci VFR letů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na www.doletis.cz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92160" indent="-534960">
              <a:lnSpc>
                <a:spcPct val="90000"/>
              </a:lnSpc>
              <a:spcBef>
                <a:spcPts val="499"/>
              </a:spcBef>
              <a:buClr>
                <a:srgbClr val="ffc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Informační video vysvětlující problematiku </a:t>
            </a: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komunikace se službou Inform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92160" indent="-534960">
              <a:lnSpc>
                <a:spcPct val="90000"/>
              </a:lnSpc>
              <a:spcBef>
                <a:spcPts val="499"/>
              </a:spcBef>
              <a:buClr>
                <a:srgbClr val="ffc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Tipy pro piloty VFR letů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na vzdálenější letiště včetně letu z VMC do IMC podmíne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92160" indent="-534960">
              <a:lnSpc>
                <a:spcPct val="90000"/>
              </a:lnSpc>
              <a:spcBef>
                <a:spcPts val="499"/>
              </a:spcBef>
              <a:buClr>
                <a:srgbClr val="ffc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Připravuje se: </a:t>
            </a: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instruktážní video pro plachtaře – přistání do terénu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, video s problematikou letecké nekázně a také video řešící problematiku stresu v krizových situacích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92160" indent="-534960">
              <a:lnSpc>
                <a:spcPct val="90000"/>
              </a:lnSpc>
              <a:spcBef>
                <a:spcPts val="499"/>
              </a:spcBef>
              <a:buClr>
                <a:srgbClr val="ffc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Každé číslo Flying Revue i web www.flying-revue.cz obsahují články a informace ke kampani Doletíš?! i bezpečnosti v oblasti všeobecného letectví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92160" indent="-534960">
              <a:lnSpc>
                <a:spcPct val="90000"/>
              </a:lnSpc>
              <a:spcBef>
                <a:spcPts val="499"/>
              </a:spcBef>
              <a:buClr>
                <a:srgbClr val="ffc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Pravidelná </a:t>
            </a: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soutěž pro piloty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o skvělé ceny – Jeppesen, at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92160" indent="-534960">
              <a:lnSpc>
                <a:spcPct val="90000"/>
              </a:lnSpc>
              <a:spcBef>
                <a:spcPts val="499"/>
              </a:spcBef>
              <a:buClr>
                <a:srgbClr val="ffc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34960" indent="-534960">
              <a:lnSpc>
                <a:spcPct val="90000"/>
              </a:lnSpc>
              <a:spcBef>
                <a:spcPts val="1001"/>
              </a:spcBef>
              <a:buClr>
                <a:srgbClr val="ffc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4960" indent="-5349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4960" indent="-5349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34960" indent="-53496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TextovéPole 2"/>
          <p:cNvSpPr/>
          <p:nvPr/>
        </p:nvSpPr>
        <p:spPr>
          <a:xfrm>
            <a:off x="5791320" y="482760"/>
            <a:ext cx="5765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baseline="30000">
                <a:solidFill>
                  <a:srgbClr val="ffffff"/>
                </a:solidFill>
                <a:latin typeface="Calibri"/>
              </a:rPr>
              <a:t>Nové rubriky zaměřené na aktivní piloty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Obrázek 7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Obdélník 4"/>
          <p:cNvSpPr/>
          <p:nvPr/>
        </p:nvSpPr>
        <p:spPr>
          <a:xfrm>
            <a:off x="5548320" y="3244680"/>
            <a:ext cx="109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yriad Pro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214280" y="1120320"/>
            <a:ext cx="10871280" cy="511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4960" indent="-534960">
              <a:lnSpc>
                <a:spcPct val="90000"/>
              </a:lnSpc>
              <a:spcBef>
                <a:spcPts val="1001"/>
              </a:spcBef>
              <a:buClr>
                <a:srgbClr val="ffc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Nový zdroj spolehlivých informací i možností pro zlepšování znalostí na www.flying-revue.cz – sekce „pro piloty“ – je postupně připravován k plnému spuštění k 1. 4. 201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2160" indent="-534960">
              <a:lnSpc>
                <a:spcPct val="90000"/>
              </a:lnSpc>
              <a:spcBef>
                <a:spcPts val="499"/>
              </a:spcBef>
              <a:buClr>
                <a:srgbClr val="ffc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Možnost </a:t>
            </a: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náslechu živé komunikace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na vybraných evropských letištích včetně LKP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92160" indent="-534960">
              <a:lnSpc>
                <a:spcPct val="90000"/>
              </a:lnSpc>
              <a:spcBef>
                <a:spcPts val="499"/>
              </a:spcBef>
              <a:buClr>
                <a:srgbClr val="ffc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Meteo v ČR/SR i jednotlivých zemích EU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92160" indent="-534960">
              <a:lnSpc>
                <a:spcPct val="90000"/>
              </a:lnSpc>
              <a:spcBef>
                <a:spcPts val="499"/>
              </a:spcBef>
              <a:buClr>
                <a:srgbClr val="ffc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Vysvětlení různých meteo informací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a situací v letectví – sekce vedená Jacekem Kerum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92160" indent="-534960">
              <a:lnSpc>
                <a:spcPct val="90000"/>
              </a:lnSpc>
              <a:spcBef>
                <a:spcPts val="499"/>
              </a:spcBef>
              <a:buClr>
                <a:srgbClr val="ffc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Přístup do jednotlivých sekcí </a:t>
            </a: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Aisview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s vysvětlením jejich využití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92160" indent="-534960">
              <a:lnSpc>
                <a:spcPct val="90000"/>
              </a:lnSpc>
              <a:spcBef>
                <a:spcPts val="499"/>
              </a:spcBef>
              <a:buClr>
                <a:srgbClr val="ffc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Aktivované prostory v ČR/SR i v zemích EU,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kde jsou tyto informace dostupné přes interne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92160" indent="-534960">
              <a:lnSpc>
                <a:spcPct val="90000"/>
              </a:lnSpc>
              <a:spcBef>
                <a:spcPts val="499"/>
              </a:spcBef>
              <a:buClr>
                <a:srgbClr val="ffc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Zdroje informací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(AIP, VFR příručky, národní aerokluby, národní organizace řízení letového provozu atd.) pro jednotlivé země E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92160" indent="-534960">
              <a:lnSpc>
                <a:spcPct val="90000"/>
              </a:lnSpc>
              <a:spcBef>
                <a:spcPts val="499"/>
              </a:spcBef>
              <a:buClr>
                <a:srgbClr val="ffc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Problematika </a:t>
            </a: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leteckého zdraví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– sekce pod dohledem MUDr Melechovskéh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92160" indent="-534960">
              <a:lnSpc>
                <a:spcPct val="90000"/>
              </a:lnSpc>
              <a:spcBef>
                <a:spcPts val="499"/>
              </a:spcBef>
              <a:buClr>
                <a:srgbClr val="ffc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Problematika </a:t>
            </a: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leteckého práva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v ČR – sekce vedená JUDr Jiřím Horník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92160" indent="-534960">
              <a:lnSpc>
                <a:spcPct val="90000"/>
              </a:lnSpc>
              <a:spcBef>
                <a:spcPts val="499"/>
              </a:spcBef>
              <a:buClr>
                <a:srgbClr val="ffc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Komplexní </a:t>
            </a: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informace a doporučení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pro mezinárodní VFR lety do jednotlivých zemí E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92160" indent="-534960">
              <a:lnSpc>
                <a:spcPct val="90000"/>
              </a:lnSpc>
              <a:spcBef>
                <a:spcPts val="499"/>
              </a:spcBef>
              <a:buClr>
                <a:srgbClr val="ffc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Výkladový slovník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obsahující 1200 leteckých pojmů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92160" indent="-534960">
              <a:lnSpc>
                <a:spcPct val="90000"/>
              </a:lnSpc>
              <a:spcBef>
                <a:spcPts val="499"/>
              </a:spcBef>
              <a:buClr>
                <a:srgbClr val="ffc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992160" indent="-534960">
              <a:lnSpc>
                <a:spcPct val="90000"/>
              </a:lnSpc>
              <a:spcBef>
                <a:spcPts val="499"/>
              </a:spcBef>
              <a:buClr>
                <a:srgbClr val="ffc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992160" indent="-534960">
              <a:lnSpc>
                <a:spcPct val="90000"/>
              </a:lnSpc>
              <a:spcBef>
                <a:spcPts val="499"/>
              </a:spcBef>
              <a:buClr>
                <a:srgbClr val="ffc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992160" indent="-534960">
              <a:lnSpc>
                <a:spcPct val="90000"/>
              </a:lnSpc>
              <a:spcBef>
                <a:spcPts val="499"/>
              </a:spcBef>
              <a:buClr>
                <a:srgbClr val="ffc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34960" indent="-534960">
              <a:lnSpc>
                <a:spcPct val="90000"/>
              </a:lnSpc>
              <a:spcBef>
                <a:spcPts val="1001"/>
              </a:spcBef>
              <a:buClr>
                <a:srgbClr val="ffc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4960" indent="-5349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4960" indent="-5349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34960" indent="-53496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TextovéPole 2"/>
          <p:cNvSpPr/>
          <p:nvPr/>
        </p:nvSpPr>
        <p:spPr>
          <a:xfrm>
            <a:off x="5791320" y="482760"/>
            <a:ext cx="5765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baseline="30000">
                <a:solidFill>
                  <a:srgbClr val="ffffff"/>
                </a:solidFill>
                <a:latin typeface="Calibri"/>
              </a:rPr>
              <a:t>Nové rubriky zaměřené na aktivní piloty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Obrázek 7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Obdélník 4"/>
          <p:cNvSpPr/>
          <p:nvPr/>
        </p:nvSpPr>
        <p:spPr>
          <a:xfrm>
            <a:off x="5548320" y="3244680"/>
            <a:ext cx="109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yriad Pro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1214280" y="1120320"/>
            <a:ext cx="10871280" cy="511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4960" indent="-534960">
              <a:lnSpc>
                <a:spcPct val="90000"/>
              </a:lnSpc>
              <a:spcBef>
                <a:spcPts val="1001"/>
              </a:spcBef>
              <a:buClr>
                <a:srgbClr val="ffc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4960" indent="-534960">
              <a:lnSpc>
                <a:spcPct val="90000"/>
              </a:lnSpc>
              <a:spcBef>
                <a:spcPts val="1001"/>
              </a:spcBef>
              <a:buClr>
                <a:srgbClr val="ffc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4960" indent="-53496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4960" indent="-53496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4960" indent="-53496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4960" indent="-53496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Díky za pozorno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92160" indent="-534960">
              <a:lnSpc>
                <a:spcPct val="90000"/>
              </a:lnSpc>
              <a:spcBef>
                <a:spcPts val="499"/>
              </a:spcBef>
              <a:buClr>
                <a:srgbClr val="ffc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992160" indent="-534960">
              <a:lnSpc>
                <a:spcPct val="90000"/>
              </a:lnSpc>
              <a:spcBef>
                <a:spcPts val="499"/>
              </a:spcBef>
              <a:buClr>
                <a:srgbClr val="ffc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992160" indent="-534960">
              <a:lnSpc>
                <a:spcPct val="90000"/>
              </a:lnSpc>
              <a:spcBef>
                <a:spcPts val="499"/>
              </a:spcBef>
              <a:buClr>
                <a:srgbClr val="ffc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992160" indent="-534960">
              <a:lnSpc>
                <a:spcPct val="90000"/>
              </a:lnSpc>
              <a:spcBef>
                <a:spcPts val="499"/>
              </a:spcBef>
              <a:buClr>
                <a:srgbClr val="ffc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34960" indent="-534960">
              <a:lnSpc>
                <a:spcPct val="90000"/>
              </a:lnSpc>
              <a:spcBef>
                <a:spcPts val="1001"/>
              </a:spcBef>
              <a:buClr>
                <a:srgbClr val="ffc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4960" indent="-5349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4960" indent="-5349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34960" indent="-53496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ovéPole 2"/>
          <p:cNvSpPr/>
          <p:nvPr/>
        </p:nvSpPr>
        <p:spPr>
          <a:xfrm>
            <a:off x="5791320" y="482760"/>
            <a:ext cx="5765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baseline="30000">
                <a:solidFill>
                  <a:srgbClr val="ffffff"/>
                </a:solidFill>
                <a:latin typeface="Calibri"/>
              </a:rPr>
              <a:t>Nové rubriky zaměřené na aktivní piloty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Obrázek 7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Obdélník 4"/>
          <p:cNvSpPr/>
          <p:nvPr/>
        </p:nvSpPr>
        <p:spPr>
          <a:xfrm>
            <a:off x="5548320" y="3244680"/>
            <a:ext cx="109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yriad Pro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584280" y="1206360"/>
            <a:ext cx="10871280" cy="476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2060"/>
                </a:solidFill>
                <a:latin typeface="Calibri"/>
              </a:rPr>
              <a:t>Omezený prostor (Restricted area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2060"/>
                </a:solidFill>
                <a:latin typeface="Calibri"/>
              </a:rPr>
              <a:t>Vzdušný prostor vymezených rozměrů nad pevninou nebo teritoriálními vodami státu, ve kterém je let letadla omezen v souladu se stanovenými podmínkami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2060"/>
                </a:solidFill>
                <a:latin typeface="Calibri"/>
              </a:rPr>
              <a:t>Dočasně vyhrazený prostor (TSA)</a:t>
            </a:r>
            <a:r>
              <a:rPr b="0" lang="cs-CZ" sz="2000" spc="-1" strike="noStrike">
                <a:solidFill>
                  <a:srgbClr val="002060"/>
                </a:solidFill>
                <a:latin typeface="Calibri"/>
              </a:rPr>
              <a:t> je definovaná část vzdušného prostoru za normálních okolností, v pravomoci jedné složky letectví, která je, na základě společné dohody dočasně vyhrazená, pro výhradní použití jinou složkou letectví a přes kterou </a:t>
            </a:r>
            <a:r>
              <a:rPr b="1" i="1" lang="cs-CZ" sz="2000" spc="-1" strike="noStrike">
                <a:solidFill>
                  <a:srgbClr val="002060"/>
                </a:solidFill>
                <a:latin typeface="Calibri"/>
              </a:rPr>
              <a:t>nebude</a:t>
            </a:r>
            <a:r>
              <a:rPr b="0" lang="cs-CZ" sz="2000" spc="-1" strike="noStrike">
                <a:solidFill>
                  <a:srgbClr val="002060"/>
                </a:solidFill>
                <a:latin typeface="Calibri"/>
              </a:rPr>
              <a:t> povolen průlet jiného provozu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2060"/>
                </a:solidFill>
                <a:latin typeface="Calibri"/>
              </a:rPr>
              <a:t>Dočasně rezervovaný prostor (TRA) </a:t>
            </a:r>
            <a:r>
              <a:rPr b="0" lang="cs-CZ" sz="2000" spc="-1" strike="noStrike">
                <a:solidFill>
                  <a:srgbClr val="002060"/>
                </a:solidFill>
                <a:latin typeface="Calibri"/>
              </a:rPr>
              <a:t>je definovaná část vzdušného prostoru za normálních okolností, v pravomoci jedné složky letectví, která je na základě společné dohody dočasně rezervovaná, pro specifické použití jinou složkou letectví a přes kterou </a:t>
            </a:r>
            <a:r>
              <a:rPr b="1" i="1" lang="cs-CZ" sz="2000" spc="-1" strike="noStrike">
                <a:solidFill>
                  <a:srgbClr val="002060"/>
                </a:solidFill>
                <a:latin typeface="Calibri"/>
              </a:rPr>
              <a:t>může na základě ATC povolení</a:t>
            </a:r>
            <a:r>
              <a:rPr b="0" lang="cs-CZ" sz="2000" spc="-1" strike="noStrike">
                <a:solidFill>
                  <a:srgbClr val="002060"/>
                </a:solidFill>
                <a:latin typeface="Calibri"/>
              </a:rPr>
              <a:t> proletět jiný provoz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spcAft>
                <a:spcPts val="601"/>
              </a:spcAft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ovéPole 2"/>
          <p:cNvSpPr/>
          <p:nvPr/>
        </p:nvSpPr>
        <p:spPr>
          <a:xfrm>
            <a:off x="5791320" y="482760"/>
            <a:ext cx="5765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baseline="30000">
                <a:solidFill>
                  <a:srgbClr val="ffffff"/>
                </a:solidFill>
                <a:latin typeface="Calibri"/>
              </a:rPr>
              <a:t>Nové rubriky zaměřené na aktivní piloty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Obrázek 7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Obdélník 4"/>
          <p:cNvSpPr/>
          <p:nvPr/>
        </p:nvSpPr>
        <p:spPr>
          <a:xfrm>
            <a:off x="5548320" y="3244680"/>
            <a:ext cx="109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yriad Pro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584280" y="1206360"/>
            <a:ext cx="10871280" cy="476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2060"/>
                </a:solidFill>
                <a:latin typeface="Calibri"/>
              </a:rPr>
              <a:t>Změny od 15. 10. 201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2060"/>
                </a:solidFill>
                <a:latin typeface="Calibri"/>
              </a:rPr>
              <a:t>Názvy prostorů se budou uvádět bez mezer (LKD, LKP, LKTRA…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2060"/>
                </a:solidFill>
                <a:latin typeface="Calibri"/>
              </a:rPr>
              <a:t>LKR 1-5 se mění na LKTSA1-5, LKTSA2 se rozděluje na LKTSA2A/B/C, horní hranice se mění z FL410 na FL40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2060"/>
                </a:solidFill>
                <a:latin typeface="Calibri"/>
              </a:rPr>
              <a:t>Prostor LKR 6 se mění na LKTRA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2060"/>
                </a:solidFill>
                <a:latin typeface="Calibri"/>
              </a:rPr>
              <a:t>Některé prostory zanikly, některé vznikly, u některých se změnily hranice </a:t>
            </a:r>
            <a:r>
              <a:rPr b="0" lang="cs-CZ" sz="2400" spc="-1" strike="noStrike">
                <a:solidFill>
                  <a:srgbClr val="00206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2060"/>
                </a:solidFill>
                <a:latin typeface="Calibri"/>
              </a:rPr>
              <a:t> v</a:t>
            </a:r>
            <a:r>
              <a:rPr b="0" lang="cs-CZ" sz="2400" spc="-1" strike="noStrike">
                <a:solidFill>
                  <a:srgbClr val="002060"/>
                </a:solidFill>
                <a:latin typeface="Calibri"/>
              </a:rPr>
              <a:t>še  lze najít na nové mapě či aplikaci ŘLP </a:t>
            </a:r>
            <a:r>
              <a:rPr b="1" lang="cs-CZ" sz="2400" spc="-1" strike="noStrike">
                <a:solidFill>
                  <a:srgbClr val="002060"/>
                </a:solidFill>
                <a:latin typeface="Calibri"/>
              </a:rPr>
              <a:t>AISVIEW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spcAft>
                <a:spcPts val="601"/>
              </a:spcAft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ovéPole 2"/>
          <p:cNvSpPr/>
          <p:nvPr/>
        </p:nvSpPr>
        <p:spPr>
          <a:xfrm>
            <a:off x="5791320" y="482760"/>
            <a:ext cx="5765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baseline="30000">
                <a:solidFill>
                  <a:srgbClr val="ffffff"/>
                </a:solidFill>
                <a:latin typeface="Calibri"/>
              </a:rPr>
              <a:t>Nové rubriky zaměřené na aktivní piloty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Obrázek 7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Obdélník 4"/>
          <p:cNvSpPr/>
          <p:nvPr/>
        </p:nvSpPr>
        <p:spPr>
          <a:xfrm>
            <a:off x="5548320" y="3244680"/>
            <a:ext cx="109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yriad Pro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509400" y="1231560"/>
            <a:ext cx="10870920" cy="476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AISVIEW – webová aplikace umožňující získání následujících informací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lánované aktivované prostory – AUP (14.00 předchozí de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Skutečně aktivované prostory – UUP (09.00 aktuální de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Grafické zobrazení aktivovaných prostorů (AUP) v ČR v závislosti na plánovaných časech let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Metary a meteo informace pro letiště v Č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ovéPole 2"/>
          <p:cNvSpPr/>
          <p:nvPr/>
        </p:nvSpPr>
        <p:spPr>
          <a:xfrm>
            <a:off x="5791320" y="482760"/>
            <a:ext cx="5765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baseline="30000">
                <a:solidFill>
                  <a:srgbClr val="ffffff"/>
                </a:solidFill>
                <a:latin typeface="Calibri"/>
              </a:rPr>
              <a:t>Nové rubriky zaměřené na aktivní piloty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Obrázek 7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Obdélník 4"/>
          <p:cNvSpPr/>
          <p:nvPr/>
        </p:nvSpPr>
        <p:spPr>
          <a:xfrm>
            <a:off x="5548320" y="3244680"/>
            <a:ext cx="109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yriad Pro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509400" y="1231560"/>
            <a:ext cx="10870920" cy="476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Plánovaní letů IBS – Integrated Briefing 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Bezplatný systém poskytovaný ŘLP Č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Je nutná registrace (ibs@ans.cz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FPL zpracovává přímo ARO Praha (oproti komerčním briefingům je prováděna kontrola operátorem – podchycení chyb, poskytnutí dodatečných informací vztahujících se k letu, individuální přístup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Kompletní meteorologické informace, předletová příprava, ATIS, AUP at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V průběhu roku nová vylepšení – návrhy tratě, navržení tratě pomocí map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Nově verze pro mobilní telefony a table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ovéPole 2"/>
          <p:cNvSpPr/>
          <p:nvPr/>
        </p:nvSpPr>
        <p:spPr>
          <a:xfrm>
            <a:off x="5791320" y="482760"/>
            <a:ext cx="5765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baseline="30000">
                <a:solidFill>
                  <a:srgbClr val="ffffff"/>
                </a:solidFill>
                <a:latin typeface="Calibri"/>
              </a:rPr>
              <a:t>Nové rubriky zaměřené na aktivní piloty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Obrázek 7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Obdélník 4"/>
          <p:cNvSpPr/>
          <p:nvPr/>
        </p:nvSpPr>
        <p:spPr>
          <a:xfrm>
            <a:off x="5548320" y="3244680"/>
            <a:ext cx="109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yriad Pro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509400" y="1231560"/>
            <a:ext cx="10870920" cy="476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71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Aisview lze najít na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71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http://aisview.rlp.cz/ - originální zdroj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71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www.flying-revue.cz  - odkazy na jednotlivé sekce Aisview s vysvětlivkami pro jejich používán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71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71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71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71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ovéPole 2"/>
          <p:cNvSpPr/>
          <p:nvPr/>
        </p:nvSpPr>
        <p:spPr>
          <a:xfrm>
            <a:off x="5791320" y="482760"/>
            <a:ext cx="5765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baseline="30000">
                <a:solidFill>
                  <a:srgbClr val="ffffff"/>
                </a:solidFill>
                <a:latin typeface="Calibri"/>
              </a:rPr>
              <a:t>Nové rubriky zaměřené na aktivní piloty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Obrázek 7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Obdélník 4"/>
          <p:cNvSpPr/>
          <p:nvPr/>
        </p:nvSpPr>
        <p:spPr>
          <a:xfrm>
            <a:off x="5548320" y="3244680"/>
            <a:ext cx="109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yriad Pro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584280" y="1206360"/>
            <a:ext cx="10871280" cy="476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Calibri"/>
              </a:rPr>
              <a:t>Od 04.02.2016 vstoupila v platnost změna AIP ENR 1.2 – „Pravidla pro lety za viditelnosti a souvisejících dokumentů VFR příručka a předpis L- frazeologie“. Kromě formálních změn a úprav se mění následující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2060"/>
                </a:solidFill>
                <a:latin typeface="Calibri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2060"/>
                </a:solidFill>
                <a:latin typeface="Calibri"/>
              </a:rPr>
              <a:t>Dosavadní „zrušení letového plánu VFR za letu“ se nově označuje “ukončení letového plánu VFR za letu“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206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2060"/>
                </a:solidFill>
                <a:latin typeface="Calibri"/>
              </a:rPr>
              <a:t>Použitá frazeologie j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2060"/>
                </a:solidFill>
                <a:latin typeface="Calibri"/>
              </a:rPr>
              <a:t>Letadlo:</a:t>
            </a:r>
            <a:r>
              <a:rPr b="0" lang="cs-CZ" sz="2000" spc="-1" strike="noStrike">
                <a:solidFill>
                  <a:srgbClr val="002060"/>
                </a:solidFill>
                <a:latin typeface="Calibri"/>
              </a:rPr>
              <a:t> UKONČUJI LETOVÝ PLÁN / CLOSING MY FLIGHT PLA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2060"/>
                </a:solidFill>
                <a:latin typeface="Calibri"/>
              </a:rPr>
              <a:t>Stanoviště ATS:</a:t>
            </a:r>
            <a:r>
              <a:rPr b="0" lang="cs-CZ" sz="2000" spc="-1" strike="noStrike">
                <a:solidFill>
                  <a:srgbClr val="002060"/>
                </a:solidFill>
                <a:latin typeface="Calibri"/>
              </a:rPr>
              <a:t> LETOVÝ PLÁN UKONČEN V … / FLIGHT PLAN CLOSED AT 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206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2060"/>
                </a:solidFill>
                <a:latin typeface="Calibri"/>
              </a:rPr>
              <a:t>Poznámka: Ukončení letového plánu VFR za letu </a:t>
            </a:r>
            <a:r>
              <a:rPr b="1" lang="cs-CZ" sz="2000" spc="-1" strike="noStrike">
                <a:solidFill>
                  <a:srgbClr val="002060"/>
                </a:solidFill>
                <a:latin typeface="Calibri"/>
              </a:rPr>
              <a:t>není povoleno</a:t>
            </a:r>
            <a:r>
              <a:rPr b="0" lang="cs-CZ" sz="2000" spc="-1" strike="noStrike">
                <a:solidFill>
                  <a:srgbClr val="002060"/>
                </a:solidFill>
                <a:latin typeface="Calibri"/>
              </a:rPr>
              <a:t>, jestliže let odlétá přes státní hranici z FIR Prah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TextovéPole 2"/>
          <p:cNvSpPr/>
          <p:nvPr/>
        </p:nvSpPr>
        <p:spPr>
          <a:xfrm>
            <a:off x="5791320" y="482760"/>
            <a:ext cx="5765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baseline="30000">
                <a:solidFill>
                  <a:srgbClr val="ffffff"/>
                </a:solidFill>
                <a:latin typeface="Calibri"/>
              </a:rPr>
              <a:t>Nové rubriky zaměřené na aktivní piloty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Obrázek 7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Obdélník 4"/>
          <p:cNvSpPr/>
          <p:nvPr/>
        </p:nvSpPr>
        <p:spPr>
          <a:xfrm>
            <a:off x="5548320" y="3244680"/>
            <a:ext cx="109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yriad Pro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372600" y="1120320"/>
            <a:ext cx="11712600" cy="511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4960" indent="-534960">
              <a:lnSpc>
                <a:spcPct val="90000"/>
              </a:lnSpc>
              <a:spcBef>
                <a:spcPts val="1001"/>
              </a:spcBef>
              <a:buClr>
                <a:srgbClr val="ffc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LKD9 BRDA - 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nový nebezpečný prostor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účinnost 31 MAR 1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GND – FL9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H24/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doporučeno vyhnut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4960" indent="-5349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4960" indent="-5349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34960" indent="-53496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extovéPole 2"/>
          <p:cNvSpPr/>
          <p:nvPr/>
        </p:nvSpPr>
        <p:spPr>
          <a:xfrm>
            <a:off x="5791320" y="482760"/>
            <a:ext cx="5765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baseline="30000">
                <a:solidFill>
                  <a:srgbClr val="ffffff"/>
                </a:solidFill>
                <a:latin typeface="Calibri"/>
              </a:rPr>
              <a:t>Nové rubriky zaměřené na aktivní piloty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27T19:51:52Z</dcterms:created>
  <dc:creator>Jožo</dc:creator>
  <dc:description/>
  <dc:language>en-US</dc:language>
  <cp:lastModifiedBy>Jirka</cp:lastModifiedBy>
  <dcterms:modified xsi:type="dcterms:W3CDTF">2016-02-28T09:54:17Z</dcterms:modified>
  <cp:revision>53</cp:revision>
  <dc:subject/>
  <dc:title>Prezentace aplikace PowerPoint</dc:title>
</cp:coreProperties>
</file>